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5.jpeg" ContentType="image/jpeg"/>
  <Override PartName="/ppt/media/image26.jpeg" ContentType="image/jpeg"/>
  <Override PartName="/ppt/media/image27.jpeg" ContentType="image/jpeg"/>
  <Override PartName="/ppt/media/image6.jpeg" ContentType="image/jpeg"/>
  <Override PartName="/ppt/media/image29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11.png" ContentType="image/png"/>
  <Override PartName="/ppt/media/image12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E579-5E34-4319-BF8E-550106A7A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3598-A809-4160-8B9A-D9D0A9BB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E68F-8AEE-4AF6-A8BB-95ADBE55D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3B04-C8A6-481D-89D6-9441F4F4F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A090-B978-44FD-A2D3-E3F353D25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C9DD-9D05-41EC-966F-FF3709AA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1219-EEE7-43A1-981D-2605BA05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ADB6-D139-40AA-A454-62A823E9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F490-167A-40F9-8230-8D20175F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64F1-E47C-417B-B172-C7F8BDF5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46F8-2E5C-45B3-A8E1-FD5F4A12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CCD1-A8FC-4049-ACDE-7F026984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7C54-010A-48B9-A9BD-D0FE09A7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3B4B-382C-4FD3-A32B-5D31A768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5D08-8AE6-468C-B751-97BF8DDB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3D2B-3917-42EA-A2CE-2AB4C9E12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1A27-77E3-44F0-B60F-7FAD2F799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4CDB-8994-4BEE-B99C-BDB3F012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674A-621F-4B87-ACBB-CB7B86A7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AE08-9F3A-44D2-813C-614AC7D7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FCFB-DC2C-4334-AF0B-527DFD0A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9DF0-B741-4D8D-8B55-E81719EB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82A2-943A-4266-867C-E05ADBF0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884B-AFC5-473A-8FD9-CA3E5F40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B916-F27F-41A3-8714-07E9DDDB498C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D531-B4E7-4E26-9B23-D857A29B2157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0"/>
          <p:cNvSpPr/>
          <p:nvPr/>
        </p:nvSpPr>
        <p:spPr>
          <a:xfrm>
            <a:off x="1384200" y="1936800"/>
            <a:ext cx="71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1"/>
          <p:cNvSpPr/>
          <p:nvPr/>
        </p:nvSpPr>
        <p:spPr>
          <a:xfrm>
            <a:off x="-1239840" y="3107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Vállalati szintű stratég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corporate strategy"/>
          <p:cNvPicPr/>
          <p:nvPr/>
        </p:nvPicPr>
        <p:blipFill>
          <a:blip r:embed="rId2"/>
          <a:stretch/>
        </p:blipFill>
        <p:spPr>
          <a:xfrm>
            <a:off x="1908000" y="2349360"/>
            <a:ext cx="460872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26920" y="-171360"/>
            <a:ext cx="8498160" cy="6840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 Rounded MT Bold"/>
              </a:rPr>
              <a:t>GE üzleti hál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160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hu-H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2340000" y="1844640"/>
            <a:ext cx="4673520" cy="462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 Rounded MT Bold"/>
              </a:rPr>
              <a:t>2.: Vállalati menedz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iroda"/>
          <p:cNvPicPr/>
          <p:nvPr/>
        </p:nvPicPr>
        <p:blipFill>
          <a:blip r:embed="rId1"/>
          <a:stretch/>
        </p:blipFill>
        <p:spPr>
          <a:xfrm>
            <a:off x="2556000" y="3141720"/>
            <a:ext cx="417672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971280" y="980640"/>
            <a:ext cx="86612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Integrációs mechanizmusok – hogy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 Rounded MT Bold"/>
              </a:rPr>
              <a:t>Centralizá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808080"/>
                </a:solidFill>
                <a:latin typeface="Arial"/>
              </a:rPr>
              <a:t>- Egy szervezeti egység =&gt; erőforrások, tevékenység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 Rounded MT Bold"/>
              </a:rPr>
              <a:t>Koordiná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808080"/>
                </a:solidFill>
                <a:latin typeface="Arial"/>
              </a:rPr>
              <a:t>- A részek irányítá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 Rounded MT Bold"/>
              </a:rPr>
              <a:t>Sztenderdizá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808080"/>
                </a:solidFill>
                <a:latin typeface="Arial"/>
              </a:rPr>
              <a:t>- Erőforrások, tevékenységek, termék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143000" y="1052640"/>
            <a:ext cx="862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Goudy Old Style"/>
              </a:rPr>
              <a:t>= Üzleti egységek (strategic business units = SBUs</a:t>
            </a:r>
            <a:r>
              <a:rPr b="1" lang="hu-HU" sz="2800" spc="-1" strike="noStrike">
                <a:solidFill>
                  <a:srgbClr val="000000"/>
                </a:solidFill>
                <a:latin typeface="Goudy Old Style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32400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547640" y="33336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 u="sng">
                <a:solidFill>
                  <a:srgbClr val="9d2f56"/>
                </a:solidFill>
                <a:uFillTx/>
                <a:latin typeface="Arial"/>
              </a:rPr>
              <a:t>Duális cégek</a:t>
            </a:r>
            <a:r>
              <a:rPr b="0" lang="hu-HU" sz="3600" spc="-1" strike="noStrike" u="sng">
                <a:solidFill>
                  <a:srgbClr val="9d2f56"/>
                </a:solidFill>
                <a:uFillTx/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1268280"/>
            <a:ext cx="532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Primer struktú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zekunder struktú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40000" y="364500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Másodlago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ráépített az alapra, rugal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68360" y="580536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d2f56"/>
                </a:solidFill>
                <a:latin typeface="Arial"/>
              </a:rPr>
              <a:t>SBA </a:t>
            </a:r>
            <a:r>
              <a:rPr b="0" lang="hu-HU" sz="2800" spc="-1" strike="noStrike">
                <a:solidFill>
                  <a:srgbClr val="9d2f56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9d2f56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9d2f56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9d2f56"/>
                </a:solidFill>
                <a:latin typeface="Arial"/>
              </a:rPr>
              <a:t>SB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51280" y="2637000"/>
            <a:ext cx="934920" cy="86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4724280"/>
            <a:ext cx="792000" cy="936720"/>
          </a:xfrm>
          <a:prstGeom prst="downArrow">
            <a:avLst>
              <a:gd name="adj1" fmla="val 50000"/>
              <a:gd name="adj2" fmla="val 295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195640" y="189000"/>
            <a:ext cx="6948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d2f56"/>
                </a:solidFill>
                <a:latin typeface="Arial"/>
              </a:rPr>
              <a:t>SBA – strategic business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9d2f56"/>
                </a:solidFill>
                <a:latin typeface="Arial"/>
              </a:rPr>
              <a:t>SGF – strategisches </a:t>
            </a:r>
            <a:r>
              <a:rPr b="0" lang="de-AT" sz="2800" spc="-1" strike="noStrike">
                <a:solidFill>
                  <a:srgbClr val="9d2f56"/>
                </a:solidFill>
                <a:latin typeface="Arial"/>
              </a:rPr>
              <a:t>geschaftsf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35280" y="1557360"/>
            <a:ext cx="6192720" cy="39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iaci szegmens, termék – piac kategó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9d2f56"/>
                </a:solidFill>
                <a:latin typeface="Arial"/>
              </a:rPr>
              <a:t>SBU – strategic business un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9d2f56"/>
                </a:solidFill>
                <a:latin typeface="Arial"/>
              </a:rPr>
              <a:t>SGE – strategic </a:t>
            </a:r>
            <a:r>
              <a:rPr b="1" lang="de-AT" sz="2800" spc="-1" strike="noStrike">
                <a:solidFill>
                  <a:srgbClr val="9d2f56"/>
                </a:solidFill>
                <a:latin typeface="Arial"/>
              </a:rPr>
              <a:t>geschafts</a:t>
            </a:r>
            <a:r>
              <a:rPr b="1" lang="hu-HU" sz="2800" spc="-1" strike="noStrike">
                <a:solidFill>
                  <a:srgbClr val="9d2f56"/>
                </a:solidFill>
                <a:latin typeface="Arial"/>
              </a:rPr>
              <a:t>einh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BA-hoz rendelt szervezeti kategó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Gyártó és szolgáltató részlegek csoportja, amelyek termékeik, piacaik, technológiájuk, felhasznált erőforrásaik, főbb céljaik szerint hasonló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6519600" y="8316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9d2f5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 rot="5400000">
            <a:off x="5654520" y="2777040"/>
            <a:ext cx="2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9d2f5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830560" y="1971360"/>
            <a:ext cx="331308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Alkalmazás - ki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 Rounded MT Bold"/>
              </a:rPr>
              <a:t>Irányít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hu-HU" sz="2800" spc="-1" strike="noStrike">
                <a:solidFill>
                  <a:srgbClr val="808080"/>
                </a:solidFill>
                <a:latin typeface="Arial"/>
              </a:rPr>
              <a:t>- Direkt - indire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 Rounded MT Bold"/>
              </a:rPr>
              <a:t>Együttműköd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0" i="1" lang="hu-HU" sz="2800" spc="-1" strike="noStrike">
                <a:solidFill>
                  <a:srgbClr val="808080"/>
                </a:solidFill>
                <a:latin typeface="Arial"/>
              </a:rPr>
              <a:t>Formális és informá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szerk2"/>
          <p:cNvPicPr/>
          <p:nvPr/>
        </p:nvPicPr>
        <p:blipFill>
          <a:blip r:embed="rId1"/>
          <a:stretch/>
        </p:blipFill>
        <p:spPr>
          <a:xfrm>
            <a:off x="0" y="1268280"/>
            <a:ext cx="5796000" cy="515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42920" y="980640"/>
            <a:ext cx="8661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000000"/>
                </a:solidFill>
                <a:uFillTx/>
                <a:latin typeface="Arial"/>
              </a:rPr>
              <a:t>Az irányítás 3 típus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 Rounded MT Bold"/>
              </a:rPr>
              <a:t>Pénzügyi irányítási stí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0" i="1" lang="hu-HU" sz="3200" spc="-1" strike="noStrike">
                <a:solidFill>
                  <a:srgbClr val="808080"/>
                </a:solidFill>
                <a:latin typeface="Arial"/>
              </a:rPr>
              <a:t>pü-i célok monitoring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 Rounded MT Bold"/>
              </a:rPr>
              <a:t>Stratégiai irányítási stí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0" i="1" lang="hu-HU" sz="3200" spc="-1" strike="noStrike">
                <a:solidFill>
                  <a:srgbClr val="808080"/>
                </a:solidFill>
                <a:latin typeface="Arial"/>
              </a:rPr>
              <a:t>central sercice, strat. célok monitoring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 Rounded MT Bold"/>
              </a:rPr>
              <a:t>Stratégiai tervezési stí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0" i="1" lang="hu-HU" sz="3200" spc="-1" strike="noStrike">
                <a:solidFill>
                  <a:srgbClr val="808080"/>
                </a:solidFill>
                <a:latin typeface="Arial"/>
              </a:rPr>
              <a:t>centralizált, standardizá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"/>
          <p:cNvSpPr/>
          <p:nvPr/>
        </p:nvSpPr>
        <p:spPr>
          <a:xfrm flipV="1">
            <a:off x="684360" y="2349000"/>
            <a:ext cx="0" cy="309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 rot="16200000">
            <a:off x="-526320" y="34869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utonó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042920" y="40464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 u="sng">
                <a:solidFill>
                  <a:srgbClr val="9d2f56"/>
                </a:solidFill>
                <a:uFillTx/>
                <a:latin typeface="Arial"/>
              </a:rPr>
              <a:t>Financial Control sty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42920" y="1773360"/>
            <a:ext cx="81010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Nagy autonóm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Kevés centralizált és standardizált 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tevékenysé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Pénzügyi célok monitoring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044720" y="189000"/>
            <a:ext cx="749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 u="sng">
                <a:solidFill>
                  <a:srgbClr val="9d2f56"/>
                </a:solidFill>
                <a:uFillTx/>
                <a:latin typeface="Arial"/>
              </a:rPr>
              <a:t>Strategic Control sty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16000" y="1844640"/>
            <a:ext cx="8028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- Szorosabb kapcsolat a corporate 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center-re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Sok central servic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Stratégiai célok monitoring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 u="sng">
                <a:solidFill>
                  <a:srgbClr val="000000"/>
                </a:solidFill>
                <a:uFillTx/>
                <a:latin typeface="Arial"/>
              </a:rPr>
              <a:t>A piaci növekedés iránya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60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 Rounded MT Bold"/>
              </a:rPr>
              <a:t>Piaci áthatolás (market penetration )</a:t>
            </a:r>
            <a:r>
              <a:rPr b="0" i="1" lang="hu-HU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2800" spc="-1" strike="noStrike">
                <a:solidFill>
                  <a:srgbClr val="808080"/>
                </a:solidFill>
                <a:latin typeface="Arial"/>
              </a:rPr>
              <a:t>- részesed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 Rounded MT Bold"/>
              </a:rPr>
              <a:t>Termékfejlesztés (product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hu-HU" sz="2800" spc="-1" strike="noStrike">
                <a:solidFill>
                  <a:srgbClr val="808080"/>
                </a:solidFill>
                <a:latin typeface="Arial"/>
              </a:rPr>
              <a:t>- termékkínál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 Rounded MT Bold"/>
              </a:rPr>
              <a:t>Piacfejlesztés (market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2800" spc="-1" strike="noStrike">
                <a:solidFill>
                  <a:srgbClr val="808080"/>
                </a:solidFill>
                <a:latin typeface="Arial"/>
              </a:rPr>
              <a:t>- szomszédos szegmensek/föld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73080" y="404640"/>
            <a:ext cx="795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 u="sng">
                <a:solidFill>
                  <a:srgbClr val="9d2f56"/>
                </a:solidFill>
                <a:uFillTx/>
                <a:latin typeface="Arial"/>
              </a:rPr>
              <a:t>Strategic Planning sty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1844640"/>
            <a:ext cx="82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Kicsi autonóm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Tevékenységek erős koordináció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Irányitás direct superv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 Rounded MT Bold"/>
              </a:rPr>
              <a:t>A reagálás (responsiveness) és szinergia paradoxo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tretch/>
        </p:blipFill>
        <p:spPr>
          <a:xfrm>
            <a:off x="2050920" y="3716280"/>
            <a:ext cx="4608720" cy="22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187280" y="981000"/>
            <a:ext cx="7499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000000"/>
                </a:solidFill>
                <a:uFillTx/>
                <a:latin typeface="Arial Rounded MT Bold"/>
              </a:rPr>
              <a:t>Philips Elecrto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Cor Boonstra (1996)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Garard Kleisterl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spagetti"/>
          <p:cNvPicPr/>
          <p:nvPr/>
        </p:nvPicPr>
        <p:blipFill>
          <a:blip r:embed="rId1"/>
          <a:stretch/>
        </p:blipFill>
        <p:spPr>
          <a:xfrm>
            <a:off x="1476360" y="2637000"/>
            <a:ext cx="2590920" cy="2590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090527 Vajas spárga"/>
          <p:cNvPicPr/>
          <p:nvPr/>
        </p:nvPicPr>
        <p:blipFill>
          <a:blip r:embed="rId2"/>
          <a:stretch/>
        </p:blipFill>
        <p:spPr>
          <a:xfrm>
            <a:off x="4932360" y="2852640"/>
            <a:ext cx="35640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hu-HU" sz="4400" spc="-1" strike="noStrike">
                <a:solidFill>
                  <a:srgbClr val="000000"/>
                </a:solidFill>
                <a:latin typeface="Arial"/>
              </a:rPr>
              <a:t>szinergia</a:t>
            </a: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 szükségessé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0" y="1988640"/>
            <a:ext cx="590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Merre érdemes terjeszkedn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 Rounded MT Bold"/>
              </a:rPr>
              <a:t>A vonzóság teszt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verseny és lehetőség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 Rounded MT Bold"/>
              </a:rPr>
              <a:t>A belépési költség tesz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megtérül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 Rounded MT Bold"/>
              </a:rPr>
              <a:t>A jobb-a-másik-nélkül teszt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szinerg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kep_kerdojel_asztal"/>
          <p:cNvPicPr/>
          <p:nvPr/>
        </p:nvPicPr>
        <p:blipFill>
          <a:blip r:embed="rId1"/>
          <a:stretch/>
        </p:blipFill>
        <p:spPr>
          <a:xfrm>
            <a:off x="0" y="2924280"/>
            <a:ext cx="3851280" cy="29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szerk3"/>
          <p:cNvPicPr/>
          <p:nvPr/>
        </p:nvPicPr>
        <p:blipFill>
          <a:blip r:embed="rId1"/>
          <a:stretch/>
        </p:blipFill>
        <p:spPr>
          <a:xfrm>
            <a:off x="826920" y="0"/>
            <a:ext cx="763272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Mikor léphet fel szinergi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 Rounded MT Bold"/>
              </a:rPr>
              <a:t>Az erőforrások kihasznál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Reallokáció – pénz, munkaer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Replikáció – tudás, képesség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 Rounded MT Bold"/>
              </a:rPr>
              <a:t>Pozíció illesz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Alkupozíció - hírné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Versenypozíció javítása – 3. fél 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 Rounded MT Bold"/>
              </a:rPr>
              <a:t>Tevékenység összehangol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Megosztás – logisztika,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3366"/>
                </a:solidFill>
                <a:latin typeface="Arial"/>
              </a:rPr>
              <a:t>Összekapcsolás – integ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Vertikális integráció előny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58920" y="1916280"/>
            <a:ext cx="7439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 Rounded MT Bold"/>
              </a:rPr>
              <a:t>Operatív koordináció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– „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megfelelő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 Rounded MT Bold"/>
              </a:rPr>
              <a:t>Tranzakciós költségek elkerülé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transzfer, szerződés ellenőrz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 Rounded MT Bold"/>
              </a:rPr>
              <a:t>Javuló alkupozíció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monopól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 Rounded MT Bold"/>
              </a:rPr>
              <a:t>Tanulási gör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K+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 Rounded MT Bold"/>
              </a:rPr>
              <a:t>Rendszer szintű változtatás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keresztülvin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hu-HU" sz="4000" spc="-1" strike="noStrike">
                <a:solidFill>
                  <a:srgbClr val="000000"/>
                </a:solidFill>
                <a:latin typeface="Arial"/>
              </a:rPr>
              <a:t>reagálás képességének</a:t>
            </a:r>
            <a:r>
              <a:rPr b="0" lang="hu-HU" sz="4000" spc="-1" strike="noStrike">
                <a:solidFill>
                  <a:srgbClr val="000000"/>
                </a:solidFill>
                <a:latin typeface="Arial"/>
              </a:rPr>
              <a:t> szükségessé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76000" y="2133360"/>
            <a:ext cx="6480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Problémák: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 Rounded MT Bold"/>
              </a:rPr>
              <a:t>Magas irányítási költségek</a:t>
            </a:r>
            <a:r>
              <a:rPr b="0" i="1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dolgozók, bürokrá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 Rounded MT Bold"/>
              </a:rPr>
              <a:t>Lassabb döntéshozás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érdekellentét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 Rounded MT Bold"/>
              </a:rPr>
              <a:t>A stratégia összeegyeztethetetlensége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kompromissz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 Rounded MT Bold"/>
              </a:rPr>
              <a:t>Az kontrolálás zavara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hu-HU" sz="2000" spc="-1" strike="noStrike">
                <a:solidFill>
                  <a:srgbClr val="000000"/>
                </a:solidFill>
                <a:latin typeface="Arial"/>
              </a:rPr>
              <a:t>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000000"/>
                </a:solidFill>
                <a:latin typeface="Arial Rounded MT Bold"/>
              </a:rPr>
              <a:t>Értelmetlen ösztönző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Cím 1"/>
          <p:cNvSpPr/>
          <p:nvPr/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000000"/>
                </a:solidFill>
                <a:latin typeface="Arial"/>
              </a:rPr>
              <a:t>Vállalati szintű stratégiák perspektívá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Egyenes összekötő nyíllal 4"/>
          <p:cNvCxnSpPr/>
          <p:nvPr/>
        </p:nvCxnSpPr>
        <p:spPr>
          <a:xfrm flipH="1">
            <a:off x="3202920" y="2420640"/>
            <a:ext cx="64836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7" name="Egyenes összekötő nyíllal 5"/>
          <p:cNvCxnSpPr/>
          <p:nvPr/>
        </p:nvCxnSpPr>
        <p:spPr>
          <a:xfrm>
            <a:off x="5075640" y="2420640"/>
            <a:ext cx="64836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8" name="Szövegdoboz 6"/>
          <p:cNvSpPr/>
          <p:nvPr/>
        </p:nvSpPr>
        <p:spPr>
          <a:xfrm>
            <a:off x="1042920" y="4581360"/>
            <a:ext cx="3313080" cy="15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öbb üzleti vállalkozás   önálló üzleti egységké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énzügyi érdekeltsé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zövegdoboz 7"/>
          <p:cNvSpPr/>
          <p:nvPr/>
        </p:nvSpPr>
        <p:spPr>
          <a:xfrm>
            <a:off x="5364000" y="4508640"/>
            <a:ext cx="316872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rős központi m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egosztott erőforrások, tevékenység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zövegdoboz 8"/>
          <p:cNvSpPr/>
          <p:nvPr/>
        </p:nvSpPr>
        <p:spPr>
          <a:xfrm>
            <a:off x="611280" y="3284640"/>
            <a:ext cx="39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ortfólió szervezeti perspektí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zövegdoboz 9"/>
          <p:cNvSpPr/>
          <p:nvPr/>
        </p:nvSpPr>
        <p:spPr>
          <a:xfrm>
            <a:off x="4932360" y="3284640"/>
            <a:ext cx="30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ntegrált szervezeti perspektí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000000"/>
                </a:solidFill>
                <a:latin typeface="Arial"/>
              </a:rPr>
              <a:t>Portfólió szervezeti perspektí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15640" y="2205000"/>
            <a:ext cx="626436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Jellemző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TÁRSADALOM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ziner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utonóm üzleti egység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vállalati központ szerepe korlátozot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üzleti portfólió kiválasztá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zigorú pénzügyi ellenőrz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észpénzforgalom átirányí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efelé nyíl 3"/>
          <p:cNvSpPr/>
          <p:nvPr/>
        </p:nvSpPr>
        <p:spPr>
          <a:xfrm>
            <a:off x="3492360" y="3860640"/>
            <a:ext cx="142920" cy="36036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Kép 4" descr="Névtelen.png"/>
          <p:cNvPicPr/>
          <p:nvPr/>
        </p:nvPicPr>
        <p:blipFill>
          <a:blip r:embed="rId1"/>
          <a:stretch/>
        </p:blipFill>
        <p:spPr>
          <a:xfrm>
            <a:off x="6227640" y="1844640"/>
            <a:ext cx="27259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 u="sng">
                <a:solidFill>
                  <a:srgbClr val="000000"/>
                </a:solidFill>
                <a:uFillTx/>
                <a:latin typeface="Arial"/>
              </a:rPr>
              <a:t>A vállalati szerkezet kialakít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160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 Rounded MT Bold"/>
              </a:rPr>
              <a:t>Mely üzletágakban legyen aktív a vállal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=&gt; vállalati összeté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 Rounded MT Bold"/>
              </a:rPr>
              <a:t>Hogyan irányítsa ezeket a vállalat?</a:t>
            </a: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000000"/>
                </a:solidFill>
                <a:latin typeface="Arial"/>
              </a:rPr>
              <a:t>=&gt; vállalati menedz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000000"/>
                </a:solidFill>
                <a:latin typeface="Arial"/>
              </a:rPr>
              <a:t>Pénzügyi szinergiák eléré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6000" y="1844640"/>
            <a:ext cx="770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orrások belső transzf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ranzakciós költségek és adók csökken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üggetlenebb kapcsolat a befektetőkk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lupozíció javítása a pénzügyi piaco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Üzleti egységek jövedelemstabilitása miatt hatékonyság és eredményes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Egyenes összekötő nyíllal 4"/>
          <p:cNvCxnSpPr/>
          <p:nvPr/>
        </p:nvCxnSpPr>
        <p:spPr>
          <a:xfrm>
            <a:off x="1476000" y="2852280"/>
            <a:ext cx="4323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000000"/>
                </a:solidFill>
                <a:latin typeface="Arial"/>
              </a:rPr>
              <a:t>BCG mátr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Kép 3" descr="Névtelen.jpg"/>
          <p:cNvPicPr/>
          <p:nvPr/>
        </p:nvPicPr>
        <p:blipFill>
          <a:blip r:embed="rId1"/>
          <a:stretch/>
        </p:blipFill>
        <p:spPr>
          <a:xfrm>
            <a:off x="1187280" y="1341360"/>
            <a:ext cx="756936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000" spc="-1" strike="noStrike">
                <a:solidFill>
                  <a:srgbClr val="000000"/>
                </a:solidFill>
                <a:latin typeface="Arial"/>
              </a:rPr>
              <a:t>Példa a portfólió szervezeti perspektívá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971280" y="1628640"/>
            <a:ext cx="777708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Degussa GmbH: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peciális vegyi anyagok termelő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él: saját piacon első len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tratégiai cél: vásárlói igények elé men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Stratégi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23 üzleti egysé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evesebb mint 150 alkalmazo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özpontban (Düsseldor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lobális üzleti felelősségg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rendelkezn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inden üzemi funkciót ellenőrizn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Kép 3" descr="212597_xl.jpg"/>
          <p:cNvPicPr/>
          <p:nvPr/>
        </p:nvPicPr>
        <p:blipFill>
          <a:blip r:embed="rId1"/>
          <a:stretch/>
        </p:blipFill>
        <p:spPr>
          <a:xfrm>
            <a:off x="5810400" y="3068640"/>
            <a:ext cx="333360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1267920"/>
            <a:ext cx="8229600" cy="1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000000"/>
                </a:solidFill>
                <a:latin typeface="Arial"/>
              </a:rPr>
              <a:t>Az integrált szervezeti perspektíva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5640" y="1412640"/>
            <a:ext cx="7343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a a vállalat több üzletágban van jelen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üzleti egységek: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közös központ köré csoportosulnak – innen irányítják őket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közös versenystratégia – mely üzletágak alkossák a magot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szoros kapcsolat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kölcsönös függőség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együttműködés – áll. koordináció!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ntegrált: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erőforrások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tevékenységek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pozíciók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VERSENYELŐNY!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0" descr="management"/>
          <p:cNvPicPr/>
          <p:nvPr/>
        </p:nvPicPr>
        <p:blipFill>
          <a:blip r:embed="rId1"/>
          <a:stretch/>
        </p:blipFill>
        <p:spPr>
          <a:xfrm>
            <a:off x="5651640" y="2924280"/>
            <a:ext cx="332892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hu-HU" sz="3600" spc="-1" strike="noStrike">
                <a:solidFill>
                  <a:srgbClr val="000000"/>
                </a:solidFill>
                <a:latin typeface="Arial"/>
              </a:rPr>
              <a:t>Core competence” típusú vállal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Multi-business vállalatok sajátos típ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vállalat szívénél több kompetencia – központi (mag) képesség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zeket több üzleti egység befolyáso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Prahalad és Hamel: vállalat = fa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örzs + fő ágak: központi termék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Ágacskák: üzleti egység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Levelek, virágok, gyümölcsök: végtermék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yökérzet: központi kompetenciá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tree"/>
          <p:cNvPicPr/>
          <p:nvPr/>
        </p:nvPicPr>
        <p:blipFill>
          <a:blip r:embed="rId1"/>
          <a:stretch/>
        </p:blipFill>
        <p:spPr>
          <a:xfrm>
            <a:off x="6156360" y="2349360"/>
            <a:ext cx="298764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i="1" lang="hu-HU" sz="3600" spc="-1" strike="noStrike">
                <a:solidFill>
                  <a:srgbClr val="000000"/>
                </a:solidFill>
                <a:latin typeface="Arial"/>
              </a:rPr>
              <a:t>Core competence” típusú vállal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Ágak (üzleti egységek) levághatók, újak növeszthető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Gyökérzet (központi kompetenciák) ellát, táplál, stabilitást 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ogyan?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zponti kompetenciákba fektetéssel.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üzleti egységek függetlenségének korlátozásáv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rforgás: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zponti kompetenciák alkalmazása az üzletágakban –&gt; képességek finomodnak –&gt; gyors tanulá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nye?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befektetett energia megtérül az egyes üzletágakb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3996olive_branch"/>
          <p:cNvPicPr/>
          <p:nvPr/>
        </p:nvPicPr>
        <p:blipFill>
          <a:blip r:embed="rId1"/>
          <a:stretch/>
        </p:blipFill>
        <p:spPr>
          <a:xfrm rot="19855800">
            <a:off x="7706880" y="1314000"/>
            <a:ext cx="1243080" cy="7416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root_1_lg"/>
          <p:cNvPicPr/>
          <p:nvPr/>
        </p:nvPicPr>
        <p:blipFill>
          <a:blip r:embed="rId2"/>
          <a:stretch/>
        </p:blipFill>
        <p:spPr>
          <a:xfrm>
            <a:off x="6659640" y="2852640"/>
            <a:ext cx="210960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1052640"/>
            <a:ext cx="80503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000000"/>
                </a:solidFill>
                <a:latin typeface="Arial"/>
              </a:rPr>
              <a:t>Az integrált szervezeti</a:t>
            </a:r>
            <a:br>
              <a:rPr sz="3600"/>
            </a:br>
            <a:r>
              <a:rPr b="1" i="1" lang="hu-HU" sz="3600" spc="-1" strike="noStrike">
                <a:solidFill>
                  <a:srgbClr val="000000"/>
                </a:solidFill>
                <a:latin typeface="Arial"/>
              </a:rPr>
              <a:t>perspektíva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7280" y="1915920"/>
            <a:ext cx="74995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vállalat a fő kompetenciákon kívül fókuszálhat más szinergiákra is – pl. változatos termékkíná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Disney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jelenlét több üzletágban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 integrált szolgáltatás csomag: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- Disney videokazetták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- Disney vidámpark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- Disney termékek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-- Disney csato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Üzletágak az egész részeként jobbak, mint önmagukb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robléma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: a felvásárlás általi növekedés nehézkes a szorosan együttműködő üzletágakná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Walt Disney Logo"/>
          <p:cNvPicPr/>
          <p:nvPr/>
        </p:nvPicPr>
        <p:blipFill>
          <a:blip r:embed="rId1"/>
          <a:stretch/>
        </p:blipFill>
        <p:spPr>
          <a:xfrm>
            <a:off x="7343640" y="0"/>
            <a:ext cx="1800360" cy="1300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Disneyland-Park"/>
          <p:cNvPicPr/>
          <p:nvPr/>
        </p:nvPicPr>
        <p:blipFill>
          <a:blip r:embed="rId2"/>
          <a:stretch/>
        </p:blipFill>
        <p:spPr>
          <a:xfrm>
            <a:off x="5219640" y="2637000"/>
            <a:ext cx="3097440" cy="2320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disney_channel_logo"/>
          <p:cNvPicPr/>
          <p:nvPr/>
        </p:nvPicPr>
        <p:blipFill>
          <a:blip r:embed="rId3"/>
          <a:stretch/>
        </p:blipFill>
        <p:spPr>
          <a:xfrm>
            <a:off x="1116000" y="1052640"/>
            <a:ext cx="1009800" cy="8935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200079"/>
          <p:cNvPicPr/>
          <p:nvPr/>
        </p:nvPicPr>
        <p:blipFill>
          <a:blip r:embed="rId4"/>
          <a:stretch/>
        </p:blipFill>
        <p:spPr>
          <a:xfrm>
            <a:off x="1187280" y="3645000"/>
            <a:ext cx="9558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14716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800" spc="-1" strike="noStrike">
                <a:solidFill>
                  <a:srgbClr val="000000"/>
                </a:solidFill>
                <a:latin typeface="Arial"/>
              </a:rPr>
              <a:t>Portfolió szervezeti vs.</a:t>
            </a:r>
            <a:br>
              <a:rPr sz="2800"/>
            </a:br>
            <a:r>
              <a:rPr b="1" i="1" lang="hu-HU" sz="2800" spc="-1" strike="noStrike">
                <a:solidFill>
                  <a:srgbClr val="000000"/>
                </a:solidFill>
                <a:latin typeface="Arial"/>
              </a:rPr>
              <a:t>integrált szervezeti perspektí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7280" y="2492280"/>
            <a:ext cx="749952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18" descr="tábla - portfolió vs integrált"/>
          <p:cNvPicPr/>
          <p:nvPr/>
        </p:nvPicPr>
        <p:blipFill>
          <a:blip r:embed="rId1"/>
          <a:stretch/>
        </p:blipFill>
        <p:spPr>
          <a:xfrm>
            <a:off x="179280" y="1538280"/>
            <a:ext cx="878544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000000"/>
                </a:solidFill>
                <a:latin typeface="Arial"/>
              </a:rPr>
              <a:t>Köszönjük a figyelme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 Rounded MT Bold"/>
              </a:rPr>
              <a:t>1.: Vállalati összeté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Hozzávalók 3 kicsi"/>
          <p:cNvPicPr/>
          <p:nvPr/>
        </p:nvPicPr>
        <p:blipFill>
          <a:blip r:embed="rId1"/>
          <a:stretch/>
        </p:blipFill>
        <p:spPr>
          <a:xfrm>
            <a:off x="2843280" y="3357720"/>
            <a:ext cx="409716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Diverzifikáci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834920" y="2205000"/>
            <a:ext cx="460836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 Rounded MT Bold"/>
              </a:rPr>
              <a:t>Módj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első növeked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Felvásárlá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 Rounded MT Bold"/>
              </a:rPr>
              <a:t>Irány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Vertiká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átrafelé men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őremen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orizontá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45000" y="1700280"/>
            <a:ext cx="54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200" spc="-1" strike="noStrike">
                <a:solidFill>
                  <a:srgbClr val="000000"/>
                </a:solidFill>
                <a:latin typeface="Goudy Old Style"/>
              </a:rPr>
              <a:t>= Új üzletágba való belép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60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hu-H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beolvasás0122"/>
          <p:cNvPicPr/>
          <p:nvPr/>
        </p:nvPicPr>
        <p:blipFill>
          <a:blip r:embed="rId1"/>
          <a:stretch/>
        </p:blipFill>
        <p:spPr>
          <a:xfrm>
            <a:off x="1116000" y="9360"/>
            <a:ext cx="748836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979640" y="0"/>
            <a:ext cx="5832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42560" y="1125000"/>
            <a:ext cx="45579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Arial Rounded MT Bold"/>
              </a:rPr>
              <a:t>Vállalati kiterjedés (Corporate scope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808080"/>
                </a:solidFill>
                <a:latin typeface="Arial"/>
              </a:rPr>
              <a:t>Milyen széles legyen a palet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4859280" y="3322800"/>
            <a:ext cx="3600360" cy="35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Arial Rounded MT Bold"/>
              </a:rPr>
              <a:t>Vállalaton belüli elosztás (Corporate distribution)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808080"/>
                </a:solidFill>
                <a:latin typeface="Arial"/>
              </a:rPr>
              <a:t>- Relatív sú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1"/>
          <a:stretch/>
        </p:blipFill>
        <p:spPr>
          <a:xfrm>
            <a:off x="5364000" y="1125360"/>
            <a:ext cx="3313440" cy="2038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"/>
          <p:cNvPicPr/>
          <p:nvPr/>
        </p:nvPicPr>
        <p:blipFill>
          <a:blip r:embed="rId2"/>
          <a:stretch/>
        </p:blipFill>
        <p:spPr>
          <a:xfrm>
            <a:off x="1332000" y="3716280"/>
            <a:ext cx="2735280" cy="26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 Rounded MT Bold"/>
              </a:rPr>
              <a:t>BCG má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60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hu-H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5267160" cy="4701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9:11:03Z</dcterms:created>
  <dc:creator>Ferenczy Csilla</dc:creator>
  <dc:description/>
  <dc:language>en-US</dc:language>
  <cp:lastModifiedBy>Papp Ilona</cp:lastModifiedBy>
  <dcterms:modified xsi:type="dcterms:W3CDTF">2010-11-19T18:17:07Z</dcterms:modified>
  <cp:revision>22</cp:revision>
  <dc:subject/>
  <dc:title>A piaci növekedés irányai</dc:title>
</cp:coreProperties>
</file>