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EEBA-E1B7-4D52-B767-59ED9FF52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6676-224B-4B69-B625-1E02F883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5DBD-3B12-434C-B75D-5FA8078CE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C657-C7AD-4506-AABA-A1E545B85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6E5F-827C-4A04-8EAB-1788E48D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DA00-9991-4552-BC20-D7117B62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F002-FE15-4CEA-9278-C7DCB590E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D1C7-BF70-4623-835A-6B2FD7C2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D509-68E7-435B-8264-46F635F9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0073-A2A5-4110-B2EC-B3793BB9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0E44-F874-4EEF-BB03-926F11B9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53B1-A164-40B8-B222-2E827DF3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0C7E-19A1-41C1-AC95-68C712444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4360" y="907920"/>
            <a:ext cx="78120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égiai menedzsment felsőfokon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Előad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Stratégiai gondolkodá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égák típus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arl Jung - - Myers és Brig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xtroverzió vs. Introverz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Érzékelés vs. Intuíc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Gondolkodás vs. Megérz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Ítéletalkotás vs. Percepc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60280"/>
            <a:ext cx="8229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gikus vs. kreatív gondolkodá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71640" y="981000"/>
            <a:ext cx="403848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IKUS GONDOLKOD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őzetes tapasztal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ényekre támaszkod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gyományokhoz ragaszkod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rábbi sémákat köv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világítja a lehetősége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ját megismerési térképeihez ragaszkod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ális szabály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épések egymásra épül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tin és szokás fo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CIONÁLISABBÁ TES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981000"/>
            <a:ext cx="403848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REATÍV GONDOLKOD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m megy végig a folyamato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épzelet világába ugr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m követ szabályok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m bizonyítékra támaszkod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Új értelmezéseket vég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zabadságot nyúj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ncsenek korlá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Új nézőp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Új definiálási mó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ovatív megold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KOTÓBBÁ TES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6021360"/>
            <a:ext cx="39528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48360" y="5805360"/>
            <a:ext cx="39528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914400" y="260280"/>
            <a:ext cx="8229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sszerű érvelő és alkotó érvelő stratég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71640" y="907920"/>
            <a:ext cx="40320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ÉSSZERŰ ÉRVEL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ogika a kreativitás felet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lemző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x szabály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evezető, számítás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üggőleg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gismerési és elemzőprobléma meghatározá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zabályszerű és végrehajtó problémamegoldá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övetkezetes, szigor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bjektív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átolnak a hiányos információ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öntés: számításon alapu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udomány, mint stratég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76720" y="907920"/>
            <a:ext cx="406728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KOTÓ ÉRVEL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reativitás a logika fele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Ösztönö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áltozó szabály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övetkeztető, képz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ízszi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fejező és érzékelő probléma meghatároz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képzelt problémamegold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évhitűség és új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zubjektí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átol az aktuális megismerési térké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öntés: megítélésen alap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űvész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050920" y="1700280"/>
            <a:ext cx="626436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öszönö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igyelmet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302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43680" y="30272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8120" y="5253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74680"/>
                <a:tab algn="l" pos="514440"/>
                <a:tab algn="l" pos="91440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22536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71640" y="1557360"/>
            <a:ext cx="8424720" cy="4932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16000" y="40464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égiai tevékenysé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476360" y="333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égiai gondolkod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2997360"/>
            <a:ext cx="54007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égiai probléma megoldásához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éma meghatároz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örülmények tisztáz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égia változtat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588000" y="2205000"/>
            <a:ext cx="1828800" cy="24955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7093080" y="4581360"/>
            <a:ext cx="2228760" cy="2057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8244000" y="3860640"/>
            <a:ext cx="66672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4716360" y="981000"/>
            <a:ext cx="2200320" cy="20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00000" y="225360"/>
            <a:ext cx="8352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The issue of strategic reaso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403280" y="1514520"/>
            <a:ext cx="7740720" cy="46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gismerés szakasz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egismerési Képessé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adálya a korlátozot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ációészlelő képessé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m fejleszthet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ációs folyamat kapacit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tok sokasá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últerheli az agy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ációtároló kapacit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zegényes memó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agy szelektál és rend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Makridakis – a döntéshozatalt torzító tényező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egerősítő bizonyítékok keres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övetkezetlensé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mi újabb, erőteljesebben érvényesü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hozzáférhetőre hagyatkoz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Képzelt korreláció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elektív észlel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egressziós effek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sikerkisajátítás és hibatulajdoní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Optimizmus, vágyvezérelt gondolkod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bizonytalanság alulértékel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lyen hatása van a torzításokna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uhaime és Schwe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nalógiás gondolkod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kontroll illúzió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elkötelezettség fokoz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gyetlen lehetséges kimenettel kalkulál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egismerési Térké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99640" y="2060640"/>
            <a:ext cx="851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gy látja az ember a világo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gismerési térkép formálódik az idővel, tanulmányaink során, tapasztalatainktól vezérelve, és a másokkal való érintkezéss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gérzések fontos szerepe – (Térképes es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yes térképeink gyakran változnak, mások állandóak – politikai, vallási nézet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z ember hajlamos túlértékelni azon információk értékét, melyek megerősítik a saját meggyőződésé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2602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gismerés szakasz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egismerési Tevékenység</a:t>
            </a:r>
            <a:r>
              <a:rPr b="0" lang="en-US" sz="4400" spc="-1" strike="noStrike">
                <a:solidFill>
                  <a:srgbClr val="9d2f5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157400" y="1600200"/>
            <a:ext cx="7986600" cy="5292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00720" y="18900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gismerés szakasz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13:37:24Z</dcterms:created>
  <dc:creator>Egyetemi Oktató</dc:creator>
  <dc:description/>
  <dc:language>en-US</dc:language>
  <cp:lastModifiedBy>Papp Ilona</cp:lastModifiedBy>
  <dcterms:modified xsi:type="dcterms:W3CDTF">2011-12-14T10:03:57Z</dcterms:modified>
  <cp:revision>27</cp:revision>
  <dc:subject/>
  <dc:title>1. dia</dc:title>
</cp:coreProperties>
</file>