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F4B9-FF94-4460-981F-BEEE2A0A355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A7BA-A0C5-411A-9068-CC5AE80FDAED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46E2-6F5C-4422-BFD4-6A2C5345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B0F-F630-465B-95A6-8BD87682E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0DB-68AE-43E4-9370-18D8A053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DD2-F522-45F7-A148-04499F97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15F2-A9CF-4906-80E1-C0CC6260B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55B-220E-4C6D-9593-CA435CBB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7AC-9596-4550-819F-B4317777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409-54A5-45F2-AE1E-9CAFD62D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D63F-3436-48F8-BE3B-FB79A8BD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6E65-B8A3-42C2-87A1-C3096C3F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FE54-CAAC-4197-B234-2E1001EE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FBA-9D34-49A4-ADF1-5A9D6EA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7C13-A977-408A-83D6-4F7A9DCBE8A1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ATÉGIA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ÁLTO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91048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Valtozas(210x140)"/>
          <p:cNvPicPr/>
          <p:nvPr/>
        </p:nvPicPr>
        <p:blipFill>
          <a:blip r:embed="rId2"/>
          <a:stretch/>
        </p:blipFill>
        <p:spPr>
          <a:xfrm>
            <a:off x="3564000" y="3429000"/>
            <a:ext cx="316872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826920" y="0"/>
            <a:ext cx="849816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STRATÉGIAI VÁLTOZÁS PERSPEKTÍVÁI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971640" y="981000"/>
            <a:ext cx="756108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jó dolgokhoz idő kell” (Epictet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rízist kiváltó ok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  Kérdés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megújulást hogyan ültessük be a folyamatosan zajló stratégiáb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lyiké legyen a vezető szere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lyik lesz sikeresebb az esetünkben, és melyiket kell csak vészhelyzetben alklamazn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ogy kombináljuk jól a két módsze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tratégiai menedzsereknek tudniuk kell mikor kell változtat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bölcsebb megoldást keres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kor lesz „földrengés” (krízist kiváltó ok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s mikor, hogyan lehet elkerül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Kép 1" descr=""/>
          <p:cNvPicPr/>
          <p:nvPr/>
        </p:nvPicPr>
        <p:blipFill>
          <a:blip r:embed="rId2"/>
          <a:stretch/>
        </p:blipFill>
        <p:spPr>
          <a:xfrm>
            <a:off x="6848640" y="5191200"/>
            <a:ext cx="2295360" cy="1666800"/>
          </a:xfrm>
          <a:prstGeom prst="rect">
            <a:avLst/>
          </a:prstGeom>
          <a:ln w="0">
            <a:noFill/>
          </a:ln>
        </p:spPr>
      </p:pic>
      <p:sp>
        <p:nvSpPr>
          <p:cNvPr id="112" name="Szövegdoboz 7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9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6"/>
          <p:cNvSpPr/>
          <p:nvPr/>
        </p:nvSpPr>
        <p:spPr>
          <a:xfrm>
            <a:off x="1332000" y="0"/>
            <a:ext cx="7812000" cy="70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akaszos (forradalmi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lyamatos (evolúció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újulá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egúju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vállalatok nem fokozatosan alakulnak ki.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kozatos fejlesztés hosszú időn keresztü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eszültség generálása (jótékony hatás)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amatos karbantartás és a változ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ors, radikális, széleskörű váltás.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minden része fo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Jelentős változás, intenzív sokk.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aggatott egyensú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cégek hajlandósága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Széleslátókörűsé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ervező rendszer megszilárd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z embereknek munkát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zigor és kényszer nem megoldás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Lassabban halad a cél fel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kár a játékszabályok felrúgása is belefér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Folyamatos készenlét a tanulás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ors, széleskörű változ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Korábbi  állapot elhagyá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rős vezetősé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Gyors eredményt várn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övid távon a nyúl győz, de hosszútávon az igyekvő teknősbék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718920" cy="85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3"/>
          <a:stretch/>
        </p:blipFill>
        <p:spPr>
          <a:xfrm>
            <a:off x="1547640" y="26028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17" name="Szövegdoboz 10"/>
          <p:cNvSpPr/>
          <p:nvPr/>
        </p:nvSpPr>
        <p:spPr>
          <a:xfrm>
            <a:off x="902520" y="321300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Előn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zövegdoboz 11"/>
          <p:cNvSpPr/>
          <p:nvPr/>
        </p:nvSpPr>
        <p:spPr>
          <a:xfrm>
            <a:off x="903600" y="4076640"/>
            <a:ext cx="7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Hátrán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zövegdoboz 12"/>
          <p:cNvSpPr/>
          <p:nvPr/>
        </p:nvSpPr>
        <p:spPr>
          <a:xfrm>
            <a:off x="900360" y="486900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A siker feltétele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13"/>
          <p:cNvSpPr/>
          <p:nvPr/>
        </p:nvSpPr>
        <p:spPr>
          <a:xfrm>
            <a:off x="8516160" y="630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0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jhátté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973080" y="76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KÉSZEN ÁLLUNK A VÁLTOZTATÁS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42920" y="242100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A cég kockáztatja-e az összes alkalmazottját a folyamatossá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avítása érdekéb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den dolog lehet jobb, ezért minden nyitott a változtatás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A cégnél mindenki motivált a folyamatos tanulás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folyamatos tudásbázis képzés), alkalmazkodás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folyamatos fejlesztés+tanulás+alkalmazko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apvetően mindenki részt vesz a szervezés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álság ösztönzi az embereket, hogy biztonságos rövidebb távú munka keresés helyett, nyissanak a hosszútávú munka fejlődése érdekéb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7743960" y="0"/>
            <a:ext cx="1400040" cy="2389320"/>
          </a:xfrm>
          <a:prstGeom prst="rect">
            <a:avLst/>
          </a:prstGeom>
          <a:ln w="0">
            <a:noFill/>
          </a:ln>
        </p:spPr>
      </p:pic>
      <p:sp>
        <p:nvSpPr>
          <p:cNvPr id="125" name="Szövegdoboz 7"/>
          <p:cNvSpPr/>
          <p:nvPr/>
        </p:nvSpPr>
        <p:spPr>
          <a:xfrm>
            <a:off x="8507880" y="630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1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jhátté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973080" y="765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INTÉZIS FE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1916280"/>
            <a:ext cx="7848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vel még nincs konszenzus, hogy hogyan lehet egyensúlyozni a forradalmat és az evolúciót, az egyéneken áll, hogyan lehet hozzáférni a vitában felhozott érvek és a saját vélemény kialakításáh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kérdés az, hogy a vezetők képesek-e radikális, átfogó és drámai döntések meghozatalár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ntos, hogy a vezetők jól ismerjék a cég erős és gyenge pontjait, tisztában legyenek a veszélyekkel és a lehetőségekkel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ezető feladata, hogy aktívan részt vegyen a szakaszos vagy folyamatos megújulási terv kidolgozás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875640" y="303120"/>
            <a:ext cx="1326960" cy="1460520"/>
          </a:xfrm>
          <a:prstGeom prst="rect">
            <a:avLst/>
          </a:prstGeom>
          <a:ln w="0">
            <a:noFill/>
          </a:ln>
        </p:spPr>
      </p:pic>
      <p:sp>
        <p:nvSpPr>
          <p:cNvPr id="130" name="Szövegdoboz 5"/>
          <p:cNvSpPr/>
          <p:nvPr/>
        </p:nvSpPr>
        <p:spPr>
          <a:xfrm>
            <a:off x="8516160" y="630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jháttér"/>
          <p:cNvPicPr/>
          <p:nvPr/>
        </p:nvPicPr>
        <p:blipFill>
          <a:blip r:embed="rId1"/>
          <a:stretch/>
        </p:blipFill>
        <p:spPr>
          <a:xfrm>
            <a:off x="-324000" y="-31608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971640" y="765000"/>
            <a:ext cx="223344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angsúly 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tratégiai megújításró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Str. megújulási folyam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tozás nagysá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tozás üt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artós megújít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eagálás a külső események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osszú távú felújítási dinam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564000" y="836640"/>
            <a:ext cx="2665440" cy="37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omlasztó fordul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Kreatív megsemmisítés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adikális, átfogó, drám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rtelen, bizonyta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Hirtelen szakítá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okk-kezelé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tabil és instabil álla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443640" y="836640"/>
            <a:ext cx="2519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zünetmentes javulá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Ökológiai alkalmazkodá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érsékelt, elaprózódot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gyenletes, folyamato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Állandó tanulás és rugalmassá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kozatmentesen szabályozhat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Állandó átmeneti állam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411280" y="-171360"/>
            <a:ext cx="6985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FORRADALMI MÓDSZER    EVOLUCIÓS MÓ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szakaszos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(folyam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03320" y="749160"/>
          <a:ext cx="7950240" cy="4025880"/>
        </p:xfrm>
        <a:graphic>
          <a:graphicData uri="http://schemas.openxmlformats.org/drawingml/2006/table">
            <a:tbl>
              <a:tblPr/>
              <a:tblGrid>
                <a:gridCol w="7950240"/>
              </a:tblGrid>
              <a:tr h="40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Szövegdoboz 8"/>
          <p:cNvSpPr/>
          <p:nvPr/>
        </p:nvSpPr>
        <p:spPr>
          <a:xfrm>
            <a:off x="1116000" y="4941720"/>
            <a:ext cx="770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 kihivás a menedzserek számára, hogy ki kell értékelniük mindkét oldal erőit és gyengeségeit és megtalálni a legjobb kombinációt mindkét oldalnak, azokra a speciális körülményekre való tekintettel, melyben a szervezet megtalálja önmagá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zövegdoboz 9"/>
          <p:cNvSpPr/>
          <p:nvPr/>
        </p:nvSpPr>
        <p:spPr>
          <a:xfrm>
            <a:off x="8516160" y="630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3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3419640" y="189000"/>
            <a:ext cx="388800" cy="47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3"/>
          <a:stretch/>
        </p:blipFill>
        <p:spPr>
          <a:xfrm>
            <a:off x="6300720" y="189000"/>
            <a:ext cx="43020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826920" y="0"/>
            <a:ext cx="849816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70c0"/>
                </a:solidFill>
                <a:latin typeface="Arial"/>
              </a:rPr>
              <a:t>                                  </a:t>
            </a:r>
            <a:r>
              <a:rPr b="1" lang="hu-HU" sz="1200" spc="-1" strike="noStrike">
                <a:solidFill>
                  <a:srgbClr val="0070c0"/>
                </a:solidFill>
                <a:latin typeface="Arial"/>
              </a:rPr>
              <a:t>ESETTANULM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70c0"/>
                </a:solidFill>
                <a:latin typeface="Arial"/>
              </a:rPr>
              <a:t>ALLIANZ      ÉS A DREZDAI BANK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971640" y="1989000"/>
            <a:ext cx="756108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2003 április: Michael Dickman átvette az Allianzot.                            Elődje aggasztó helyzetet hagyott rá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Külső hatások miatt zuhantak a részvények, romlott az értékü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Megoldás: Allfina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- A szervezés átalakítás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A termékek széles spektruma a hitelektől kezdve a befektetésekig szét kell hogy osztódjon az Allianz közvetlen eladási csatornája és a Drezdai fiókok közö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~hasonló eset: a nagy német négyes bankoknál (nagy banksűrűsé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Arial"/>
              </a:rPr>
              <a:t>→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Arial"/>
              </a:rPr>
              <a:t>minden 3. munkavállalót elbocsátottak, és minden 2. bankfiókot bezártak + állami garancia letét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3"/>
          <a:stretch/>
        </p:blipFill>
        <p:spPr>
          <a:xfrm>
            <a:off x="2916360" y="836640"/>
            <a:ext cx="1627200" cy="1079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4"/>
          <a:stretch/>
        </p:blipFill>
        <p:spPr>
          <a:xfrm>
            <a:off x="2268360" y="333360"/>
            <a:ext cx="343080" cy="428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5"/>
          <a:stretch/>
        </p:blipFill>
        <p:spPr>
          <a:xfrm>
            <a:off x="5867280" y="404640"/>
            <a:ext cx="352440" cy="419400"/>
          </a:xfrm>
          <a:prstGeom prst="rect">
            <a:avLst/>
          </a:prstGeom>
          <a:ln w="0">
            <a:noFill/>
          </a:ln>
        </p:spPr>
      </p:pic>
      <p:sp>
        <p:nvSpPr>
          <p:cNvPr id="148" name="Szövegdoboz 8"/>
          <p:cNvSpPr/>
          <p:nvPr/>
        </p:nvSpPr>
        <p:spPr>
          <a:xfrm>
            <a:off x="8516160" y="630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4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6" descr="jhátté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826920" y="0"/>
            <a:ext cx="8498160" cy="7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200" spc="-1" strike="noStrike">
                <a:solidFill>
                  <a:srgbClr val="0070c0"/>
                </a:solidFill>
                <a:latin typeface="Arial"/>
              </a:rPr>
              <a:t>                                  </a:t>
            </a:r>
            <a:r>
              <a:rPr b="1" lang="hu-HU" sz="1200" spc="-1" strike="noStrike">
                <a:solidFill>
                  <a:srgbClr val="0070c0"/>
                </a:solidFill>
                <a:latin typeface="Arial"/>
              </a:rPr>
              <a:t>ESETTANULMÁ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70c0"/>
                </a:solidFill>
                <a:latin typeface="Arial"/>
              </a:rPr>
              <a:t>CENTRICA: RÁTAPOSNI A GÁZRA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971640" y="1413000"/>
            <a:ext cx="835344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1997 február: a brit gázt szétosztották két vállalat közöt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→ 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CENTRICA (gáz kereskedel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	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 → 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BG Group (gáz előállítása, termelése, szállítása, nemzetközi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	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művelet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Kihívás: fogyasztócentrikus, különálló vállalatok létreh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A CENRICA válasza a problémára: radikálisan újrafogalmazták az üzletüket az egyszerű gázszolgáltatástól a lényeges háztartási szolgáltatásokig és gyorsan megváltoztatták a hibátlan szervezést az ügyfélközpontú szolgáltatás felé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→ </a:t>
            </a:r>
            <a:r>
              <a:rPr b="0" lang="hu-HU" sz="1800" spc="-1" strike="noStrike">
                <a:solidFill>
                  <a:srgbClr val="0070c0"/>
                </a:solidFill>
                <a:latin typeface="Arial"/>
                <a:ea typeface="Calibri"/>
              </a:rPr>
              <a:t>3 éven belül a CENTRICA széleskörben kiterjesztette a termé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792000" cy="480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792000" cy="504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4"/>
          <a:stretch/>
        </p:blipFill>
        <p:spPr>
          <a:xfrm>
            <a:off x="7848720" y="260280"/>
            <a:ext cx="1295280" cy="865080"/>
          </a:xfrm>
          <a:prstGeom prst="rect">
            <a:avLst/>
          </a:prstGeom>
          <a:ln w="0">
            <a:noFill/>
          </a:ln>
        </p:spPr>
      </p:pic>
      <p:sp>
        <p:nvSpPr>
          <p:cNvPr id="155" name="Szövegdoboz 7"/>
          <p:cNvSpPr/>
          <p:nvPr/>
        </p:nvSpPr>
        <p:spPr>
          <a:xfrm>
            <a:off x="8516160" y="630864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5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6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57" name="Szövegdoboz 2"/>
          <p:cNvSpPr/>
          <p:nvPr/>
        </p:nvSpPr>
        <p:spPr>
          <a:xfrm>
            <a:off x="2556000" y="1773360"/>
            <a:ext cx="42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SZÖNJÜK A FIGYELM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826920" y="981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826920" y="2060640"/>
            <a:ext cx="705816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„ </a:t>
            </a:r>
            <a:r>
              <a:rPr b="0" i="1" lang="hu-HU" sz="1800" spc="-1" strike="noStrike">
                <a:solidFill>
                  <a:srgbClr val="000000"/>
                </a:solidFill>
                <a:latin typeface="Arial"/>
              </a:rPr>
              <a:t>Nincs nehezebb egy kockázatos és bizonytalan kimenetű dolog kapcsán, mint egy új dolog bevezetésének irányítása, mivel az újítóval szemben állnak a régi állapot hívei, míg az újdonság támogatói csak visszafogottan jelzik támogatásukat.”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  Machiav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em az a kérdés, hogy változtatni kell, han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3300"/>
                </a:solidFill>
                <a:latin typeface="Arial"/>
              </a:rPr>
              <a:t>Hol, hogyan és milyen irányb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áltozás típusa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eratív változás: cél a hatékonyság, eredményesség megőrzése, a finom változtat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atégiai változás: üzleti és/vagy szervezeti rendszer vált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ezetők számára kihívás, hogy lépést tartsanak a változó lehetőségek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35840" y="568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kerdojel"/>
          <p:cNvPicPr/>
          <p:nvPr/>
        </p:nvPicPr>
        <p:blipFill>
          <a:blip r:embed="rId2"/>
          <a:stretch/>
        </p:blipFill>
        <p:spPr>
          <a:xfrm>
            <a:off x="7191360" y="189000"/>
            <a:ext cx="1952640" cy="1892160"/>
          </a:xfrm>
          <a:prstGeom prst="rect">
            <a:avLst/>
          </a:prstGeom>
          <a:ln w="0">
            <a:noFill/>
          </a:ln>
        </p:spPr>
      </p:pic>
      <p:sp>
        <p:nvSpPr>
          <p:cNvPr id="57" name="Szövegdoboz 6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539640" y="90792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826920" y="765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TRATÉGIAI MEGÚJÍTÁS KÉRDÉSE ÉS TERÜLE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826920" y="1341360"/>
            <a:ext cx="7704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cégek komplex rendsz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legalapvetőbb rendszer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leti rendszer: az üzlet irányításának mód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rvezeti rendszer:a szervezeti tagok kapcsolata, az üzleti rendszer támogató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1258920" y="2637000"/>
            <a:ext cx="144000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rőforr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5"/>
          <p:cNvSpPr/>
          <p:nvPr/>
        </p:nvSpPr>
        <p:spPr>
          <a:xfrm>
            <a:off x="2700360" y="278136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3276720" y="2637000"/>
            <a:ext cx="165564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Tevékeny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Értékterem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7"/>
          <p:cNvSpPr/>
          <p:nvPr/>
        </p:nvSpPr>
        <p:spPr>
          <a:xfrm>
            <a:off x="4932360" y="2781360"/>
            <a:ext cx="576360" cy="144360"/>
          </a:xfrm>
          <a:prstGeom prst="rightArrow">
            <a:avLst>
              <a:gd name="adj1" fmla="val 50000"/>
              <a:gd name="adj2" fmla="val 998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508720" y="2637000"/>
            <a:ext cx="19429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gyasztói érté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0" descr="beolvasás0106"/>
          <p:cNvPicPr/>
          <p:nvPr/>
        </p:nvPicPr>
        <p:blipFill>
          <a:blip r:embed="rId2"/>
          <a:stretch/>
        </p:blipFill>
        <p:spPr>
          <a:xfrm>
            <a:off x="3132000" y="3887640"/>
            <a:ext cx="3097440" cy="2970360"/>
          </a:xfrm>
          <a:prstGeom prst="rect">
            <a:avLst/>
          </a:prstGeom>
          <a:ln w="0">
            <a:noFill/>
          </a:ln>
        </p:spPr>
      </p:pic>
      <p:sp>
        <p:nvSpPr>
          <p:cNvPr id="68" name="Szövegdoboz 11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9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900000" y="40464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SZERVEZETI RENDSZER (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71640" y="1197000"/>
            <a:ext cx="74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észe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rvezeti struktúra: egyének és feladatok csoportosít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utatja a formális függőségi viszonyok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informális viszony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szervezeti folyam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 szervezeti kultú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 flipH="1">
            <a:off x="5724000" y="206064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beolvasás0105_"/>
          <p:cNvPicPr/>
          <p:nvPr/>
        </p:nvPicPr>
        <p:blipFill>
          <a:blip r:embed="rId2"/>
          <a:stretch/>
        </p:blipFill>
        <p:spPr>
          <a:xfrm>
            <a:off x="1476360" y="3286080"/>
            <a:ext cx="6985080" cy="3571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3"/>
          <a:stretch/>
        </p:blipFill>
        <p:spPr>
          <a:xfrm>
            <a:off x="7802640" y="0"/>
            <a:ext cx="1341360" cy="2060640"/>
          </a:xfrm>
          <a:prstGeom prst="rect">
            <a:avLst/>
          </a:prstGeom>
          <a:ln w="0">
            <a:noFill/>
          </a:ln>
        </p:spPr>
      </p:pic>
      <p:sp>
        <p:nvSpPr>
          <p:cNvPr id="75" name="Szövegdoboz 7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jháttér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jháttér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beolvasás0105__"/>
          <p:cNvPicPr/>
          <p:nvPr/>
        </p:nvPicPr>
        <p:blipFill>
          <a:blip r:embed="rId3"/>
          <a:stretch/>
        </p:blipFill>
        <p:spPr>
          <a:xfrm>
            <a:off x="971640" y="2205000"/>
            <a:ext cx="7956360" cy="4157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900000" y="69228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SZERVEZETI RENDSZER (2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7802640" y="0"/>
            <a:ext cx="1341360" cy="2060640"/>
          </a:xfrm>
          <a:prstGeom prst="rect">
            <a:avLst/>
          </a:prstGeom>
          <a:ln w="0">
            <a:noFill/>
          </a:ln>
        </p:spPr>
      </p:pic>
      <p:sp>
        <p:nvSpPr>
          <p:cNvPr id="81" name="Szövegdoboz 6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900000" y="69228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SZERVEZETI RENDSZER (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900000" y="1484280"/>
            <a:ext cx="74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ervezeti folyamatok: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 utasítások, eljárások, rutinfeladatok, amelyek ellenőrzik, irányítják a vállalat dolgozóit és üzleti egység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Egész szervezetet érintő: üzleti tervezés, jelentés elkészítési módszer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Egyéb: ideiglenes projektcsoportok, pletykák, rögtönzött megbeszél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zervezeti kultú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: világnézet, viselkedési minta, amit követni k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Például: hogyan kell viselkedni egy meeting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Közös nyelvet teremt meg, a könnyebb kommunikációt segí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Szubkultúrák létezé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8028000" y="1197000"/>
            <a:ext cx="134460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8028000" y="4005360"/>
            <a:ext cx="1351080" cy="2089080"/>
          </a:xfrm>
          <a:prstGeom prst="rect">
            <a:avLst/>
          </a:prstGeom>
          <a:ln w="0">
            <a:noFill/>
          </a:ln>
        </p:spPr>
      </p:pic>
      <p:sp>
        <p:nvSpPr>
          <p:cNvPr id="87" name="Szövegdoboz 6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900000" y="692280"/>
            <a:ext cx="446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VÁLTOZÁS NAGYSÁ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900000" y="1484280"/>
            <a:ext cx="8244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Operatív változás: Cola citrom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Stratégiai változás: ásványvízelad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Terjedelme: széleskörű v. szűk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amplitudója: magas v. alacsony, sebessége: rendszertelen v. egyenletes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időzítése: időszakos v. álland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Gyorsasága: alacsony v. ma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beolvasás0001"/>
          <p:cNvPicPr/>
          <p:nvPr/>
        </p:nvPicPr>
        <p:blipFill>
          <a:blip r:embed="rId2"/>
          <a:stretch/>
        </p:blipFill>
        <p:spPr>
          <a:xfrm>
            <a:off x="2556000" y="2924280"/>
            <a:ext cx="4248000" cy="21128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9"/>
          <p:cNvSpPr/>
          <p:nvPr/>
        </p:nvSpPr>
        <p:spPr>
          <a:xfrm>
            <a:off x="1619280" y="5013360"/>
            <a:ext cx="640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Nagy lépése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Kis lépés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Rendszertelen változások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(A út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Rendszeres változ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Radikális változás (Y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eratív válto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Időzítés (T1, T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Gyorsasága (T1-T2&gt;T4-T5)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aturaqua"/>
          <p:cNvPicPr/>
          <p:nvPr/>
        </p:nvPicPr>
        <p:blipFill>
          <a:blip r:embed="rId3"/>
          <a:stretch/>
        </p:blipFill>
        <p:spPr>
          <a:xfrm>
            <a:off x="7365960" y="-171360"/>
            <a:ext cx="1778040" cy="177804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7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900000" y="620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A FORRADALOM ÉS AZ EVOLUCIÓ PARADOX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68360" y="1700280"/>
            <a:ext cx="76327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00000" y="1844640"/>
            <a:ext cx="770436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változtatási lehetőségek:</a:t>
            </a:r>
            <a:br>
              <a:rPr sz="1800"/>
            </a:b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forradalmi v. radikál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yorsan megy végbe és radikális változást eredmény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Evolúciós v. fokoz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olyamatosságra utal, a múlt tapasztalataiból kell építkezni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közben a két változtatási folyamat teljesen eltérő egymástól, a szakemberek megegyeznek abban, hogy mindkettőre szükségük 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e mindkét változási út eredményezhet radikális változá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m1fygm8jxsbb"/>
          <p:cNvPicPr/>
          <p:nvPr/>
        </p:nvPicPr>
        <p:blipFill>
          <a:blip r:embed="rId2"/>
          <a:stretch/>
        </p:blipFill>
        <p:spPr>
          <a:xfrm>
            <a:off x="7667640" y="3357720"/>
            <a:ext cx="1646280" cy="1645920"/>
          </a:xfrm>
          <a:prstGeom prst="rect">
            <a:avLst/>
          </a:prstGeom>
          <a:ln w="0">
            <a:noFill/>
          </a:ln>
        </p:spPr>
      </p:pic>
      <p:sp>
        <p:nvSpPr>
          <p:cNvPr id="100" name="Szövegdoboz 6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826920" y="692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GÉNY A FORRADALMI VÁLTOZTATÁSI MÓDSZERR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900000" y="1700280"/>
            <a:ext cx="75614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szervezeti megmerevedés esetei: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Pszichológiai ellenál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2. Kulturális ellenáll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 Politikai ellenáll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Beruházást követő bezá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5. Kompetencia miatti bezár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6. Rendszer miatti cső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7. Részvényesek miatti cső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tratégiai változás szükséges (tipikus példák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ersenytársak, szabályozók nyom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Úttörők előn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sztrajk070829_170"/>
          <p:cNvPicPr/>
          <p:nvPr/>
        </p:nvPicPr>
        <p:blipFill>
          <a:blip r:embed="rId2"/>
          <a:stretch/>
        </p:blipFill>
        <p:spPr>
          <a:xfrm>
            <a:off x="5148360" y="148428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preview-2038048521"/>
          <p:cNvPicPr/>
          <p:nvPr/>
        </p:nvPicPr>
        <p:blipFill>
          <a:blip r:embed="rId3"/>
          <a:stretch/>
        </p:blipFill>
        <p:spPr>
          <a:xfrm>
            <a:off x="6877080" y="3716280"/>
            <a:ext cx="1998720" cy="1306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3a81cc543308da57159e568ba8695035"/>
          <p:cNvPicPr/>
          <p:nvPr/>
        </p:nvPicPr>
        <p:blipFill>
          <a:blip r:embed="rId4"/>
          <a:stretch/>
        </p:blipFill>
        <p:spPr>
          <a:xfrm>
            <a:off x="5867280" y="5729400"/>
            <a:ext cx="2016360" cy="1128600"/>
          </a:xfrm>
          <a:prstGeom prst="rect">
            <a:avLst/>
          </a:prstGeom>
          <a:ln w="0">
            <a:noFill/>
          </a:ln>
        </p:spPr>
      </p:pic>
      <p:sp>
        <p:nvSpPr>
          <p:cNvPr id="107" name="Szövegdoboz 7"/>
          <p:cNvSpPr/>
          <p:nvPr/>
        </p:nvSpPr>
        <p:spPr>
          <a:xfrm>
            <a:off x="8515080" y="63086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8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21:45:30Z</dcterms:created>
  <dc:creator>Josh</dc:creator>
  <dc:description/>
  <dc:language>en-US</dc:language>
  <cp:lastModifiedBy>Papp Ilona</cp:lastModifiedBy>
  <dcterms:modified xsi:type="dcterms:W3CDTF">2011-12-14T10:08:18Z</dcterms:modified>
  <cp:revision>118</cp:revision>
  <dc:subject/>
  <dc:title>STRATÉGIAI VÁLTOZÁSOK</dc:title>
</cp:coreProperties>
</file>