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96C-A344-4A93-B504-8849BC63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4A3-C9F3-4836-8CAC-1EFFA2CC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1C11-B84F-4654-81E5-6AD99A54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42B-6B7E-4BFF-9803-5932C979A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200-CC04-4595-89AC-5D9F8760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DF87-61FC-434A-93AE-840D0A50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BF2B-DD51-4974-994E-AABBF57E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223-A371-4F87-AC07-BAFD000B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515-247A-404E-893A-97988A8F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F65C-DB0C-430D-BB03-A6C15DF6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8B6-8966-4D35-9E2B-91B52E5F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077F-9560-4D10-A364-E4D96EE0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929F-A5E9-498D-9A1D-3E279C36508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jháttér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jháttér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1332000" y="907920"/>
            <a:ext cx="770400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5400" spc="-1" strike="noStrike">
                <a:solidFill>
                  <a:srgbClr val="000000"/>
                </a:solidFill>
                <a:latin typeface="Times New Roman"/>
              </a:rPr>
              <a:t>Stratégia menedzsment</a:t>
            </a:r>
            <a:r>
              <a:rPr b="0" lang="hu-H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000000"/>
                </a:solidFill>
                <a:latin typeface="Times New Roman"/>
              </a:rPr>
              <a:t>2.Előadá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4800" spc="-1" strike="noStrike">
                <a:solidFill>
                  <a:srgbClr val="000000"/>
                </a:solidFill>
                <a:latin typeface="Times New Roman"/>
              </a:rPr>
              <a:t>SRATEGY 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szándékolt stratégia igén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zövegdoboz 1"/>
          <p:cNvSpPr/>
          <p:nvPr/>
        </p:nvSpPr>
        <p:spPr>
          <a:xfrm>
            <a:off x="1042920" y="177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zövegdoboz 2"/>
          <p:cNvSpPr/>
          <p:nvPr/>
        </p:nvSpPr>
        <p:spPr>
          <a:xfrm>
            <a:off x="324000" y="1771560"/>
            <a:ext cx="2160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rányítás (dir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zövegdoboz 5"/>
          <p:cNvSpPr/>
          <p:nvPr/>
        </p:nvSpPr>
        <p:spPr>
          <a:xfrm>
            <a:off x="2700360" y="1773360"/>
            <a:ext cx="32400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kötelezettség (commit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zövegdoboz 6"/>
          <p:cNvSpPr/>
          <p:nvPr/>
        </p:nvSpPr>
        <p:spPr>
          <a:xfrm>
            <a:off x="6084720" y="1773360"/>
            <a:ext cx="3240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Összehangolás (coord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zövegdoboz 7"/>
          <p:cNvSpPr/>
          <p:nvPr/>
        </p:nvSpPr>
        <p:spPr>
          <a:xfrm>
            <a:off x="977760" y="4538520"/>
            <a:ext cx="30178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timalizálás (optim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zövegdoboz 8"/>
          <p:cNvSpPr/>
          <p:nvPr/>
        </p:nvSpPr>
        <p:spPr>
          <a:xfrm>
            <a:off x="5364000" y="4538520"/>
            <a:ext cx="3168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rogramozás (program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ekerekített téglalap feliratnak 3"/>
          <p:cNvSpPr/>
          <p:nvPr/>
        </p:nvSpPr>
        <p:spPr>
          <a:xfrm>
            <a:off x="581040" y="2556000"/>
            <a:ext cx="2376360" cy="1360440"/>
          </a:xfrm>
          <a:prstGeom prst="wedgeRoundRectCallout">
            <a:avLst>
              <a:gd name="adj1" fmla="val -36175"/>
              <a:gd name="adj2" fmla="val -78967"/>
              <a:gd name="adj3" fmla="val 16667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jékozódó képes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rány meghatáro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ekerekített téglalap feliratnak 10"/>
          <p:cNvSpPr/>
          <p:nvPr/>
        </p:nvSpPr>
        <p:spPr>
          <a:xfrm>
            <a:off x="3265560" y="2577960"/>
            <a:ext cx="2808360" cy="1360800"/>
          </a:xfrm>
          <a:prstGeom prst="wedgeRoundRectCallout">
            <a:avLst>
              <a:gd name="adj1" fmla="val -4587"/>
              <a:gd name="adj2" fmla="val -79972"/>
              <a:gd name="adj3" fmla="val 16667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kötelezettség a terv irá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rmelési kapacitások kiépít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ekerekített téglalap feliratnak 11"/>
          <p:cNvSpPr/>
          <p:nvPr/>
        </p:nvSpPr>
        <p:spPr>
          <a:xfrm>
            <a:off x="6588000" y="2577960"/>
            <a:ext cx="1656000" cy="1360800"/>
          </a:xfrm>
          <a:prstGeom prst="wedgeRoundRectCallout">
            <a:avLst>
              <a:gd name="adj1" fmla="val -16004"/>
              <a:gd name="adj2" fmla="val -81976"/>
              <a:gd name="adj3" fmla="val 16667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élemények - folya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ekerekített téglalap feliratnak 12"/>
          <p:cNvSpPr/>
          <p:nvPr/>
        </p:nvSpPr>
        <p:spPr>
          <a:xfrm>
            <a:off x="1805040" y="5437080"/>
            <a:ext cx="2190600" cy="1360440"/>
          </a:xfrm>
          <a:prstGeom prst="wedgeRoundRectCallout">
            <a:avLst>
              <a:gd name="adj1" fmla="val -26250"/>
              <a:gd name="adj2" fmla="val -88000"/>
              <a:gd name="adj3" fmla="val 16667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orra venni a lehetősége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rtékel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ekerekített téglalap feliratnak 13"/>
          <p:cNvSpPr/>
          <p:nvPr/>
        </p:nvSpPr>
        <p:spPr>
          <a:xfrm>
            <a:off x="6192720" y="5440320"/>
            <a:ext cx="2051280" cy="1359000"/>
          </a:xfrm>
          <a:prstGeom prst="wedgeRoundRectCallout">
            <a:avLst>
              <a:gd name="adj1" fmla="val -24444"/>
              <a:gd name="adj2" fmla="val -86995"/>
              <a:gd name="adj3" fmla="val 16667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temter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lkerülhető a káo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megvalósuló</a:t>
            </a: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 stratégia igén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ekerekített téglalap feliratnak 4"/>
          <p:cNvSpPr/>
          <p:nvPr/>
        </p:nvSpPr>
        <p:spPr>
          <a:xfrm>
            <a:off x="1049400" y="2506680"/>
            <a:ext cx="1833480" cy="1360440"/>
          </a:xfrm>
          <a:prstGeom prst="wedgeRoundRectCallout">
            <a:avLst>
              <a:gd name="adj1" fmla="val -36175"/>
              <a:gd name="adj2" fmla="val -78967"/>
              <a:gd name="adj3" fmla="val 16667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yitottság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ors reagá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ekerekített téglalap feliratnak 5"/>
          <p:cNvSpPr/>
          <p:nvPr/>
        </p:nvSpPr>
        <p:spPr>
          <a:xfrm>
            <a:off x="3492360" y="2492280"/>
            <a:ext cx="2270160" cy="1360440"/>
          </a:xfrm>
          <a:prstGeom prst="wedgeRoundRectCallout">
            <a:avLst>
              <a:gd name="adj1" fmla="val -36175"/>
              <a:gd name="adj2" fmla="val -78967"/>
              <a:gd name="adj3" fmla="val 16667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ciók rugalmas kezel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ekerekített téglalap feliratnak 6"/>
          <p:cNvSpPr/>
          <p:nvPr/>
        </p:nvSpPr>
        <p:spPr>
          <a:xfrm>
            <a:off x="6561000" y="2506680"/>
            <a:ext cx="1898640" cy="1360440"/>
          </a:xfrm>
          <a:prstGeom prst="wedgeRoundRectCallout">
            <a:avLst>
              <a:gd name="adj1" fmla="val -36175"/>
              <a:gd name="adj2" fmla="val -78967"/>
              <a:gd name="adj3" fmla="val 16667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ísérletez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ekerekített téglalap feliratnak 7"/>
          <p:cNvSpPr/>
          <p:nvPr/>
        </p:nvSpPr>
        <p:spPr>
          <a:xfrm>
            <a:off x="1555920" y="5300640"/>
            <a:ext cx="2655720" cy="1360440"/>
          </a:xfrm>
          <a:prstGeom prst="wedgeRoundRectCallout">
            <a:avLst>
              <a:gd name="adj1" fmla="val -36175"/>
              <a:gd name="adj2" fmla="val -78967"/>
              <a:gd name="adj3" fmla="val 16667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Ötletek kidolgo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aját koncepció életképességének bizony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ekerekített téglalap feliratnak 8"/>
          <p:cNvSpPr/>
          <p:nvPr/>
        </p:nvSpPr>
        <p:spPr>
          <a:xfrm>
            <a:off x="5796000" y="5300640"/>
            <a:ext cx="2663640" cy="1360440"/>
          </a:xfrm>
          <a:prstGeom prst="wedgeRoundRectCallout">
            <a:avLst>
              <a:gd name="adj1" fmla="val -28490"/>
              <a:gd name="adj2" fmla="val -78967"/>
              <a:gd name="adj3" fmla="val 16667"/>
            </a:avLst>
          </a:prstGeom>
          <a:solidFill>
            <a:srgbClr val="99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Új ötlet – vált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ogatást kell szerezni az ötletre – mi a módj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zövegdoboz 2"/>
          <p:cNvSpPr/>
          <p:nvPr/>
        </p:nvSpPr>
        <p:spPr>
          <a:xfrm>
            <a:off x="115920" y="1717560"/>
            <a:ext cx="2879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alkuvás (opportun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10"/>
          <p:cNvSpPr/>
          <p:nvPr/>
        </p:nvSpPr>
        <p:spPr>
          <a:xfrm>
            <a:off x="3059280" y="1717560"/>
            <a:ext cx="27367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ugalmasság (flexi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zövegdoboz 11"/>
          <p:cNvSpPr/>
          <p:nvPr/>
        </p:nvSpPr>
        <p:spPr>
          <a:xfrm>
            <a:off x="6031080" y="1717560"/>
            <a:ext cx="2050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anulás (lear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12"/>
          <p:cNvSpPr/>
          <p:nvPr/>
        </p:nvSpPr>
        <p:spPr>
          <a:xfrm>
            <a:off x="955800" y="4527720"/>
            <a:ext cx="3400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állalkozás (enterpreneursh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13"/>
          <p:cNvSpPr/>
          <p:nvPr/>
        </p:nvSpPr>
        <p:spPr>
          <a:xfrm>
            <a:off x="5762520" y="4527720"/>
            <a:ext cx="2521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ámogatás (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83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tervezés és az inkrementalizmus paradoxo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71280" y="2492280"/>
            <a:ext cx="771516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t eltérő módszer a stratégia kialakít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vezett stratégia vs. Inkrementalista straté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tratégiai menedzsment irodalmában sem alakult ki konszenz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Tervezett straté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26920" y="2205000"/>
            <a:ext cx="84981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em tervezett cselekvés nem stratég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ondolkodj, mielőtt cselekszel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eljes folyamat lépések sorozatára bonthat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osszú távra terv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előrejelzés nehéz folyamat, különösen, ha a jövőre irányul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Kép 3" descr=""/>
          <p:cNvPicPr/>
          <p:nvPr/>
        </p:nvPicPr>
        <p:blipFill>
          <a:blip r:embed="rId1"/>
          <a:stretch/>
        </p:blipFill>
        <p:spPr>
          <a:xfrm>
            <a:off x="3995640" y="4941720"/>
            <a:ext cx="26002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Kép 4" descr=""/>
          <p:cNvPicPr/>
          <p:nvPr/>
        </p:nvPicPr>
        <p:blipFill>
          <a:blip r:embed="rId1"/>
          <a:stretch/>
        </p:blipFill>
        <p:spPr>
          <a:xfrm>
            <a:off x="2987640" y="-316080"/>
            <a:ext cx="4788000" cy="2171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971640" y="2205000"/>
            <a:ext cx="8424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60-as évek: Samsung Group, Byung Chull L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lépés az elektronikai cikkek piac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osszú távú célkitűzés megfogalmazása: Piacvezető pozíció a high-tech termékek piac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97-98: csökkenő kereslet a piacon, de a cég kitartott eredeti elképzelése mell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Nagy és erős válla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Kép 5" descr=""/>
          <p:cNvPicPr/>
          <p:nvPr/>
        </p:nvPicPr>
        <p:blipFill>
          <a:blip r:embed="rId2"/>
          <a:stretch/>
        </p:blipFill>
        <p:spPr>
          <a:xfrm>
            <a:off x="7327800" y="5270400"/>
            <a:ext cx="18162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ép 3" descr=""/>
          <p:cNvPicPr/>
          <p:nvPr/>
        </p:nvPicPr>
        <p:blipFill>
          <a:blip r:embed="rId1"/>
          <a:stretch/>
        </p:blipFill>
        <p:spPr>
          <a:xfrm>
            <a:off x="6875640" y="5445000"/>
            <a:ext cx="2268360" cy="1700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tratégiai inkrementaliz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00000" y="1052640"/>
            <a:ext cx="835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rülményekre való reagálás, rugalmas stratégia-alak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z ötleteket nem lehet megrendelésre gyárt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vezés csak kisebb problémák megoldásá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Tervezés hibá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obléma meghatározása maga a problé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problémák elemzése lehetet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Összetett probléma megoldása komplex tervet igényel, nagy a bukás lehető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ervezés és a végrehajtás elválaszthatat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jövő megjósolhatat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71280" y="191628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899, Tok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yorsan, finomat, olcsó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tenderdizálás elutas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1979, USA; alkalmazkodás a helyi szokásokho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enleg: 845 egység Japánban, 171 a világ többi rész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Kép 3" descr=""/>
          <p:cNvPicPr/>
          <p:nvPr/>
        </p:nvPicPr>
        <p:blipFill>
          <a:blip r:embed="rId1"/>
          <a:stretch/>
        </p:blipFill>
        <p:spPr>
          <a:xfrm>
            <a:off x="5940360" y="4756320"/>
            <a:ext cx="3424320" cy="2260440"/>
          </a:xfrm>
          <a:prstGeom prst="rect">
            <a:avLst/>
          </a:prstGeom>
          <a:ln w="0">
            <a:noFill/>
          </a:ln>
        </p:spPr>
      </p:pic>
      <p:pic>
        <p:nvPicPr>
          <p:cNvPr id="103" name="Kép 4" descr=""/>
          <p:cNvPicPr/>
          <p:nvPr/>
        </p:nvPicPr>
        <p:blipFill>
          <a:blip r:embed="rId2"/>
          <a:stretch/>
        </p:blipFill>
        <p:spPr>
          <a:xfrm>
            <a:off x="2987640" y="0"/>
            <a:ext cx="4114800" cy="1279440"/>
          </a:xfrm>
          <a:prstGeom prst="rect">
            <a:avLst/>
          </a:prstGeom>
          <a:ln w="0">
            <a:noFill/>
          </a:ln>
        </p:spPr>
      </p:pic>
      <p:pic>
        <p:nvPicPr>
          <p:cNvPr id="104" name="Kép 6" descr=""/>
          <p:cNvPicPr/>
          <p:nvPr/>
        </p:nvPicPr>
        <p:blipFill>
          <a:blip r:embed="rId3"/>
          <a:stretch/>
        </p:blipFill>
        <p:spPr>
          <a:xfrm>
            <a:off x="1295280" y="5305320"/>
            <a:ext cx="338472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Scan3"/>
          <p:cNvPicPr/>
          <p:nvPr/>
        </p:nvPicPr>
        <p:blipFill>
          <a:blip r:embed="rId1"/>
          <a:stretch/>
        </p:blipFill>
        <p:spPr>
          <a:xfrm>
            <a:off x="971640" y="907920"/>
            <a:ext cx="8373960" cy="5689800"/>
          </a:xfrm>
          <a:prstGeom prst="rect">
            <a:avLst/>
          </a:prstGeom>
          <a:ln w="0">
            <a:noFill/>
          </a:ln>
        </p:spPr>
      </p:pic>
      <p:sp>
        <p:nvSpPr>
          <p:cNvPr id="106" name="Szövegdoboz 1"/>
          <p:cNvSpPr/>
          <p:nvPr/>
        </p:nvSpPr>
        <p:spPr>
          <a:xfrm>
            <a:off x="2843280" y="11592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000000"/>
                </a:solidFill>
                <a:latin typeface="Arial"/>
              </a:rPr>
              <a:t>Köszönöm a megtisztelő figyelm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stratégia kialaku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206064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ratégia: olyan tevékenységsorozat, amely a szervezeti célok elérésére irány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Tervezett és realizált stratégia (Mintzberg és Wa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menedzserek szerepe és felelős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Kép 1" descr=""/>
          <p:cNvPicPr/>
          <p:nvPr/>
        </p:nvPicPr>
        <p:blipFill>
          <a:blip r:embed="rId1"/>
          <a:stretch/>
        </p:blipFill>
        <p:spPr>
          <a:xfrm>
            <a:off x="2575080" y="4249800"/>
            <a:ext cx="39240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Scan1"/>
          <p:cNvPicPr/>
          <p:nvPr/>
        </p:nvPicPr>
        <p:blipFill>
          <a:blip r:embed="rId1"/>
          <a:stretch/>
        </p:blipFill>
        <p:spPr>
          <a:xfrm>
            <a:off x="1187280" y="1274760"/>
            <a:ext cx="7956720" cy="5742000"/>
          </a:xfrm>
          <a:prstGeom prst="rect">
            <a:avLst/>
          </a:prstGeom>
          <a:ln w="0">
            <a:noFill/>
          </a:ln>
        </p:spPr>
      </p:pic>
      <p:sp>
        <p:nvSpPr>
          <p:cNvPr id="50" name="Szövegdoboz 1"/>
          <p:cNvSpPr/>
          <p:nvPr/>
        </p:nvSpPr>
        <p:spPr>
          <a:xfrm>
            <a:off x="250920" y="-171360"/>
            <a:ext cx="92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stratégia kialakulásának tevékenység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tratégiai problémák azonosítási tevékenység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2331720"/>
            <a:ext cx="403884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menedzsereknek meg kell fogalmazniuk a problémá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üldetés meghatározás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ervezet milyen célokat, mely területen, és milyen feltételek mellett kíván követ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Teendők meghatározás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igyelemösszpontosító tényezők határozzák meg, hogy mely problémák kerülnek a szervezeti teendők köz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zonosítás"/>
          <p:cNvPicPr/>
          <p:nvPr/>
        </p:nvPicPr>
        <p:blipFill>
          <a:blip r:embed="rId1"/>
          <a:stretch/>
        </p:blipFill>
        <p:spPr>
          <a:xfrm>
            <a:off x="4932360" y="2781360"/>
            <a:ext cx="403848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100" spc="-1" strike="noStrike">
                <a:solidFill>
                  <a:srgbClr val="000000"/>
                </a:solidFill>
                <a:latin typeface="Arial"/>
              </a:rPr>
              <a:t>Stratégiai problémák meghatározásának tevékenységei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915920"/>
            <a:ext cx="40388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birkózni úgy lehet egy problémával,ha megpróbáljuk megérteni a szerkezetét és mögötte meghúzódó okok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Külső értékelé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ervezetet körülvevő környezet szerkezetének és dinamikájának vizsgálatára irány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Belső értékelé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szervezet adottságainak és működésének vizsgálatára irány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iagnózis"/>
          <p:cNvPicPr/>
          <p:nvPr/>
        </p:nvPicPr>
        <p:blipFill>
          <a:blip r:embed="rId1"/>
          <a:stretch/>
        </p:blipFill>
        <p:spPr>
          <a:xfrm>
            <a:off x="5219640" y="2565360"/>
            <a:ext cx="3791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tratégia-alkotási tevékenység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4183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menedzsereknek elő kell állni egy potenciális megoldással a stratégiai probléma megoldásá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Opció létrehozása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100"/>
            </a:b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lehetséges stratégiák kidolgozá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 u="sng">
                <a:solidFill>
                  <a:srgbClr val="000000"/>
                </a:solidFill>
                <a:uFillTx/>
                <a:latin typeface="Arial"/>
              </a:rPr>
              <a:t>Opció kiválasztása</a:t>
            </a: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100"/>
            </a:br>
            <a:r>
              <a:rPr b="0" lang="hu-HU" sz="2100" spc="-1" strike="noStrike">
                <a:solidFill>
                  <a:srgbClr val="000000"/>
                </a:solidFill>
                <a:latin typeface="Arial"/>
              </a:rPr>
              <a:t>a potenciális megoldások értékelése, hogy alkalmasak-e a probléma kezelésé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tervezés"/>
          <p:cNvPicPr/>
          <p:nvPr/>
        </p:nvPicPr>
        <p:blipFill>
          <a:blip r:embed="rId1"/>
          <a:stretch/>
        </p:blipFill>
        <p:spPr>
          <a:xfrm>
            <a:off x="5148360" y="2781360"/>
            <a:ext cx="38196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Stratégiai megvalósítási tevékenység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összes olyan gyakorlati tevékenység, amelyet a szervezet véghezvis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Végrehaj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tervezett intézkedéseket teljesíteni kell, hogy megvalósult intézkedés válhasson belőlü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000000"/>
                </a:solidFill>
                <a:uFillTx/>
                <a:latin typeface="Arial"/>
              </a:rPr>
              <a:t>Teljesítmény ellenőrzés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mérni kell a tevékenységet, amit a szervezetben végrehajta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megvalósítás"/>
          <p:cNvPicPr/>
          <p:nvPr/>
        </p:nvPicPr>
        <p:blipFill>
          <a:blip r:embed="rId1"/>
          <a:stretch/>
        </p:blipFill>
        <p:spPr>
          <a:xfrm>
            <a:off x="5148360" y="2751120"/>
            <a:ext cx="380988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stratégia kialakulási folyamat szerep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87280" y="2276640"/>
            <a:ext cx="74995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ső, közép és alsó szintű szerep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ezetői és személyzeti szerep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ülső és belső szerep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ormalizáltság kérd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 szándékolt és a szándéktól független stratégia ellenté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Scan2"/>
          <p:cNvPicPr/>
          <p:nvPr/>
        </p:nvPicPr>
        <p:blipFill>
          <a:blip r:embed="rId1"/>
          <a:stretch/>
        </p:blipFill>
        <p:spPr>
          <a:xfrm>
            <a:off x="1116000" y="1628640"/>
            <a:ext cx="7812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09:14:57Z</dcterms:created>
  <dc:creator>Judit</dc:creator>
  <dc:description/>
  <dc:language>en-US</dc:language>
  <cp:lastModifiedBy>Papp Ilona</cp:lastModifiedBy>
  <dcterms:modified xsi:type="dcterms:W3CDTF">2011-12-14T10:07:06Z</dcterms:modified>
  <cp:revision>57</cp:revision>
  <dc:subject/>
  <dc:title>Strategy formation</dc:title>
</cp:coreProperties>
</file>