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71BA-B206-4421-B46E-BA058B9A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442-C063-47DC-95A9-7E0EB252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8FE3-1E3F-4F70-83E3-8189BA77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CC4-544D-45E9-8A40-ECA45B24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47AF-A85D-42AA-B551-0766B1DE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BBA-AA74-4EBC-9654-B6DEA1C6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D1F-44D4-4DEB-A599-D1735233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C96F-C9DC-4AC4-BAE9-97B0F74C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901D-1CCD-4965-96AD-BD877B9F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DAD7-4C53-4173-8A5F-0865D7F2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9D40-C433-4DD6-BD75-18D520AA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6AA-34CF-4094-AD25-865000B9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EC5F3-9110-4A06-AB9F-8D4FC3C04B67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háttér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755640" y="0"/>
            <a:ext cx="838836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800" spc="-1" strike="noStrike">
                <a:solidFill>
                  <a:srgbClr val="9d2f56"/>
                </a:solidFill>
                <a:latin typeface="Arial"/>
              </a:rPr>
              <a:t>Stratégiai menedz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9d2f56"/>
                </a:solidFill>
                <a:latin typeface="Arial"/>
              </a:rPr>
              <a:t> </a:t>
            </a:r>
            <a:r>
              <a:rPr b="1" lang="hu-HU" sz="5400" spc="-1" strike="noStrike">
                <a:solidFill>
                  <a:srgbClr val="9d2f56"/>
                </a:solidFill>
                <a:latin typeface="Arial"/>
              </a:rPr>
              <a:t>Organizational purpo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9d2f56"/>
                </a:solidFill>
                <a:latin typeface="Arial"/>
              </a:rPr>
              <a:t>(A szervezeti célkitűzé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A vállalati küldetés elem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vállalati küldetés erőssége attól függ, hogy ez a négy elem hogyan passzol egymáshoz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kölcsönösen hogyan erősítik egymá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a küldetés létrejö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 szervezet tagjai között emocionális kötelék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→ energetizálja őket a küldetés szerinti munká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Küldetés </a:t>
            </a:r>
            <a:r>
              <a:rPr b="0" lang="hu-HU" sz="4400" spc="-1" strike="noStrike">
                <a:solidFill>
                  <a:srgbClr val="9d2f56"/>
                </a:solidFill>
                <a:latin typeface="Arial"/>
                <a:ea typeface="Arial"/>
              </a:rPr>
              <a:t>≠ víz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988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íziót gyakran összetévesztik a küldeté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ízió: felvázolják az ügyök jövőbeli állapotát, amit el akarnak ér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üldetés – Alapelvek, amelyek a stratégiai döntéseket vezér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ízió – Vágyott jövő, amit a vállalat remél, hogy el fog ér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Vállalati küldetés funkció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vállalati küldetés tagolható a küldetésnyilatkozat eszközei sze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a küldetés nincs leírva,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növeli az esélyét,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ogy eltérő értelmezések alakuljanak ki a szervezeten belü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Vállalati küldetés funkció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Iránymutatás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pontosítja az alapszabályokat, amin a stratégiának alapulnia kell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adott irányba állítja a szervezet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gitimizáció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az üzleti filozófia meghatározásával megnő az esélye, hogy a részvényesek elfogadják, támogatják, és bíznak a cég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otiváció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közös munkára inspirál egy adott irányba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9d2f56"/>
                </a:solidFill>
                <a:latin typeface="Arial"/>
              </a:rPr>
              <a:t>Vállalati vezetés formái - Struktú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553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 szintű testületi struktúra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Németország, Hollandia, Finnorszá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szintű testületi struktúra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USA, Nagy-Britannia, Japá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abadon választható (Svájc, Franciao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 szintű: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rőviszonyok formális felosztása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(igazgatóság + felügyelő bizottsá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gy szintű: igazgatók és nem igazgatósági vezetők együtt vannak a vezetőségb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9d2f56"/>
                </a:solidFill>
                <a:latin typeface="Arial"/>
              </a:rPr>
              <a:t>Vállalati vezetés formái - Struktú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8497800" cy="42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9d2f56"/>
                </a:solidFill>
                <a:latin typeface="Arial"/>
              </a:rPr>
              <a:t>Vállalati vezetés formái - Tagsá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igazgatótanács összetétele nagyon eltérő lehet – jogi szabályoz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Németország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igazgatótanács 50% a cég alkalmazottja, 50% részvén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Franciaország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a munkaerő  képviselői megfigyelői státusz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9d2f56"/>
                </a:solidFill>
                <a:latin typeface="Arial"/>
              </a:rPr>
              <a:t>Vállalati vezetés formái - Feladat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484280"/>
            <a:ext cx="8229600" cy="571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anács ritkán találkozik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szavazásra kérik csak meg őket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→ csak kicsi formális/ informális ereje van, hogy ellentmondjon a vezérigazgató akaratán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 tanács rendszeresen találkozik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- aktív szerep a vállalat irányításában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- pl: javaslatok kialakítása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felső vezetők kiválasztása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Vállalati vezetés funkció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Formáló funkció: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befolyásolja a vállalati misszió kialakulását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alakítja, tagolja, kommunikálja az alapelveket, amik a szervezeti tevékenységet irányítani fogjá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00"/>
                </a:solidFill>
                <a:uFillTx/>
                <a:latin typeface="Arial"/>
              </a:rPr>
              <a:t>Teljesítmény funkció: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közreműködik a stratégia folyamatában, hogy a vállalat jövőbeli teljesítményét javítsa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elbírálja a felső vezetők stratégiai kezdeményezései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Vállalati vezetés funkció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Megfelelőségi funkció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biztosítja a vállalati megfelelőséget a megadott küldetéshez és stratégiához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felügyeli, hogy a vállalat a tevékenységét az ígéreteknek megfelelően végzi-e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ha hiányt talál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→ nyomást gyakorol a változás érdekében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jháttér"/>
          <p:cNvPicPr/>
          <p:nvPr/>
        </p:nvPicPr>
        <p:blipFill>
          <a:blip r:embed="rId1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900000" y="713160"/>
            <a:ext cx="849636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4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74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ülönböző szempontok szerint vizsgálták a stratégiát, de kevés figyelmet szenteltek a szervezeti célokra</a:t>
            </a:r>
            <a:br>
              <a:rPr sz="2400"/>
            </a:b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 - A figyelem az eszközökön volt, nem a cél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74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74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Követelményeket támasztanak a céggel szemben: részvényesek, alkalmazottak, beszállítók, ügyfelek, kormányok és közösség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74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74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 kell határozni, ki lesz a vállalat értékteremtő tevékenységének a fő kezdeményezet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74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74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szervezeti cél alapelvként funkcionálhat a stratégiai lehetőségek értékelések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4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74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eghatározása kihívásokkal teli feladat – sokféle néz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74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74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746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6"/>
          <p:cNvSpPr/>
          <p:nvPr/>
        </p:nvSpPr>
        <p:spPr>
          <a:xfrm>
            <a:off x="2916360" y="18900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Beveze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9d2f56"/>
                </a:solidFill>
                <a:latin typeface="Arial"/>
              </a:rPr>
              <a:t>Jövedelmezőség és felelősség paradox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553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ipari forradalom óta központi téma számos társadalomtudomány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cégnek olyan stratégiát kell folytatni, ami biztosítja a jövedelmezőséget,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e emellett bizonyos társadalmi felelősségvállalásnak is meg kell jelen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legtöbb vezető szerint mindkettő értékes cél, amire törekedni k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Jövedelmezősé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241280"/>
            <a:ext cx="8388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gazdasági szervezetnek profitot kell termelnie, hogy talpon marad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tőzsdére bevezetett vállalatok erős nyereségessége a magasabb részvényárakban tükröződ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elősegíti más cégek megszerzését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védelem az ellenséges felvásárlás 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nyereségesség nem csak előnye, hanem forrása is a versenyelőny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Biztosítja a cég számára a pénzügyi mozgásteret, hogy javítsa versenypozícióját, és megvalósítsa a törekvés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Társadalmi felelősségvállal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izalom kiépítése az emberek közö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izalom: Ha az emberek érzik, hogy mások társadalmilag felelősségteljesen viselkednek, ahelyett, hogy a saját érdekeiket korlátozás nélkül érvényesítené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termelékeny csapatmu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Fontos, hogy a bizalom a szervezet és szélesebb környezete között is fejlődjön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- vásárlók, szállítók, aktivista csoport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9d2f56"/>
                </a:solidFill>
                <a:latin typeface="Arial"/>
              </a:rPr>
              <a:t>A részvényesek érdekeinek perspektívá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 a legjobb a részvényeseknek?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Magas részvényárak és magas osztalék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hosszú távú beruházások, K+F tevékenység, tőke beruházás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felső vezetők számára nagy kihívás, hogy a részvényesek érdekeire törekedjenek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részvényesek megbízásából dolgoznak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saját érdekeik érvényesítése helye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bízó-ügynök” probl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9d2f56"/>
                </a:solidFill>
                <a:latin typeface="Arial"/>
              </a:rPr>
              <a:t>Az érintettek érdekeinek perspektívá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céget úgy kell kezelni, mint egy együttműködés a különböző erőviszonyú felek közö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zös válla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nőségi értékek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dolgozók: munkakörülmények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szállítók: közös innovációk, közös kockázatvise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A részvényesek és az érintet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1258920" y="1600200"/>
            <a:ext cx="74167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Köszönöm a figyelm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Vállalati külde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egfoghatatlan foga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agasztos elvek listáj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állalati küldetés = alapelv, amely egy adott irányba hajtja, mozgósítja a vállalat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lyen típusú alapelvek építik f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Milyen szerepet játszik a stratégia kialakításának folyamatáb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i határozza m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Vállalati külde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719280" y="1773360"/>
            <a:ext cx="8424720" cy="47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A vállalati küldetés elem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ervezeti cél : az ok, amiért a cég létez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vezetők szervezeti célról alkotott felfogása irányt ad a stratégia folyamatának, befolyásolja a stratégia tartalmá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lapelvek utat mutatnak a stratégiai döntéshozatal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szervezeti cél a vállalat stratégiájának a központja, de a három másik alkotórész is rendkívül fo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A vállalati küldetés elem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6" descr="Untitled"/>
          <p:cNvPicPr/>
          <p:nvPr/>
        </p:nvPicPr>
        <p:blipFill>
          <a:blip r:embed="rId2"/>
          <a:srcRect l="0" t="0" r="47248" b="44094"/>
          <a:stretch/>
        </p:blipFill>
        <p:spPr>
          <a:xfrm>
            <a:off x="1042920" y="1557360"/>
            <a:ext cx="7775640" cy="53006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8"/>
          <p:cNvSpPr/>
          <p:nvPr/>
        </p:nvSpPr>
        <p:spPr>
          <a:xfrm>
            <a:off x="5724360" y="2205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ervezeti esz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1547640" y="59500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Üzlet meghatározá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6300720" y="6021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ervezeti érték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4284720" y="472428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ervezeti cé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	</a:t>
            </a: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 </a:t>
            </a:r>
            <a:r>
              <a:rPr b="0" lang="hu-HU" sz="4400" spc="-1" strike="noStrike">
                <a:solidFill>
                  <a:srgbClr val="9d2f56"/>
                </a:solidFill>
                <a:latin typeface="Arial"/>
              </a:rPr>
              <a:t>A vállalati küldetés elemei – Szervezeti esz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773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 feltevések a környezet jellegéről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- mit kell a cégnek tenni, hogy sikeres legyen az üzletb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 a cégen belül nincs egyetértés az alap stratégiai eszmékről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→ konfliktusos és elhúzódó döntéshoza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Gyors és összehangolt munka: egyetértés szüksé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A közös eszmék megerősítéséhez minden szervezeti tagra szükség va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- könnyebb kommunikáció és döntéshozatal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- magabiztosabb, motiváltabb csap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9d2f56"/>
                </a:solidFill>
                <a:latin typeface="Arial"/>
              </a:rPr>
              <a:t>A vállalati küldetés elemei – Szervezeti érték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zervezeten belül minden embernek megvannak a saját értékei, amiről hiszi, hogy j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Ha a szervezet tagjainak közös is az értékrendje, meghatározó hogy mit tartanak: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érdemleges tevékenységnek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etikus szokásnak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morális felelősség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nagy hatással lehetnek a stratégiai döntések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jháttér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9d2f56"/>
                </a:solidFill>
                <a:latin typeface="Arial"/>
              </a:rPr>
              <a:t>A vállalati küldetés elemei – Üzlet meghatározá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Jó üzlet, amíg a befektetések megtérüln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- irányvonal hiá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üzlet meghatározása alapelvként szolgá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egít megkülönböztetni a lehetőségeket a felesleges kitérőktő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13:37:24Z</dcterms:created>
  <dc:creator>Egyetemi Oktató</dc:creator>
  <dc:description/>
  <dc:language>en-US</dc:language>
  <cp:lastModifiedBy>Papp Ilona</cp:lastModifiedBy>
  <dcterms:modified xsi:type="dcterms:W3CDTF">2011-12-14T10:25:54Z</dcterms:modified>
  <cp:revision>76</cp:revision>
  <dc:subject/>
  <dc:title>1. dia</dc:title>
</cp:coreProperties>
</file>