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3174-2FB4-4455-8FB3-D331BB2E3D48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8E079-3EBB-4839-95CA-507BABC1E4C5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D1A7-57DE-40DA-903F-5D88A95966CE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94D-5060-4393-B587-799356A00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B44-6F70-4E4C-B74E-8057EC4B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C4B4-A0AA-4A2D-AB99-C1FD3CCD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FA9B-DE80-411C-8884-14CE5964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679-125F-4B2D-B92D-BB4648FB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6941-80F9-4C19-8D67-E60B4D90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3874-D523-4137-982E-09620EC1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FB5-0F52-4F38-AC0F-D246DEAA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C88-E013-4156-BFE7-B191189B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94E-18AA-4ADD-B197-44A84EB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E89-DD32-47A8-A0E1-0E142492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339-4793-4F66-A74E-552F6D7B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F397-0FFA-4AAD-A319-A70FD62541F3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3F77-83AA-48DD-B552-58403C7231D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1f497d"/>
                </a:solidFill>
                <a:latin typeface="Calibri"/>
              </a:rPr>
              <a:t>The organizational context</a:t>
            </a:r>
            <a:br>
              <a:rPr sz="4400"/>
            </a:br>
            <a:r>
              <a:rPr b="0" lang="hu-HU" sz="4400" spc="-1" strike="noStrike">
                <a:solidFill>
                  <a:srgbClr val="1f497d"/>
                </a:solidFill>
                <a:latin typeface="Calibri"/>
              </a:rPr>
              <a:t>A szervezeti környez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357600" y="5284080"/>
            <a:ext cx="148572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http://t3.gstatic.com/images?q=tbn:ANd9GcRCCt11ZFNJFHTV1lSbqVo2Ks1t0I3TrBjVLxv7IPgDrb4pH631"/>
          <p:cNvPicPr/>
          <p:nvPr/>
        </p:nvPicPr>
        <p:blipFill>
          <a:blip r:embed="rId1"/>
          <a:stretch/>
        </p:blipFill>
        <p:spPr>
          <a:xfrm>
            <a:off x="3429000" y="4572000"/>
            <a:ext cx="2610000" cy="1752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f497d"/>
                </a:solidFill>
                <a:latin typeface="Calibri"/>
              </a:rPr>
              <a:t>Példa – Le Meridien szállodalá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42640" y="928440"/>
            <a:ext cx="75438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2001. szept. 8. : 850 millió £ beruházási program, mellyel 3 éven belül az iparág élére áll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2001. szept. 11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Jürgen Banels: „ A véleményem, hogy bármilyen körülmények között vannak győztesek és vesztesek….nem veszíthet mindenki egyformán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Célja: megteremteni a modern luxus szállodák egy új szintjét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→ valaha volt legnagyobb iparági vállal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Globális szállodalánc: minden szálloda m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JB kettős stratégiáj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rt &amp; Tech” (művészet és technológi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Tresure hunting” (kincsvadásza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2CA0-5229-44EC-B264-8E07AE84DF4E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F83C-B31A-431D-A22A-D6D332CEE46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http://www.hotel.info/media/hotel/picturelist/52521/52521_333577_634345678062716431.jpg"/>
          <p:cNvPicPr/>
          <p:nvPr/>
        </p:nvPicPr>
        <p:blipFill>
          <a:blip r:embed="rId2"/>
          <a:stretch/>
        </p:blipFill>
        <p:spPr>
          <a:xfrm>
            <a:off x="6000840" y="4429080"/>
            <a:ext cx="2878200" cy="1913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www.budapesthotelreservation.hu/site_images/hotels/big/Le_Meridien_Hotel_Budapest_09.jpg"/>
          <p:cNvPicPr/>
          <p:nvPr/>
        </p:nvPicPr>
        <p:blipFill>
          <a:blip r:embed="rId3"/>
          <a:stretch/>
        </p:blipFill>
        <p:spPr>
          <a:xfrm>
            <a:off x="6786720" y="3214800"/>
            <a:ext cx="1928520" cy="1446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Le Meridien Bangkok"/>
          <p:cNvPicPr/>
          <p:nvPr/>
        </p:nvPicPr>
        <p:blipFill>
          <a:blip r:embed="rId4"/>
          <a:stretch/>
        </p:blipFill>
        <p:spPr>
          <a:xfrm>
            <a:off x="5286240" y="3714840"/>
            <a:ext cx="1824120" cy="121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http://3.bp.blogspot.com/_xEfo6oilAWU/S8YDvjI8ZxI/AAAAAAAAIe4/6_9XS0dLrvA/s200/LeParkerMeridien-774242.jpg"/>
          <p:cNvPicPr/>
          <p:nvPr/>
        </p:nvPicPr>
        <p:blipFill>
          <a:blip r:embed="rId5"/>
          <a:stretch/>
        </p:blipFill>
        <p:spPr>
          <a:xfrm>
            <a:off x="1428840" y="457200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f497d"/>
                </a:solidFill>
                <a:latin typeface="Calibri"/>
              </a:rPr>
              <a:t>A SZERVEZETI KÖRNYEZET PERSPEKTÍVÁ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71360" y="2142720"/>
            <a:ext cx="47862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0" lang="hu-HU" sz="2000" spc="-1" strike="noStrike">
                <a:solidFill>
                  <a:srgbClr val="1f497d"/>
                </a:solidFill>
                <a:latin typeface="Calibri"/>
              </a:rPr>
              <a:t>Nem állítom, hogy irányítottam volna az eseményeket, inkább őszintén bevallom, hogy az események irányítottak engem.” (Abraham Lincol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Tartalom helye 6" descr="lincoln.jpg"/>
          <p:cNvPicPr/>
          <p:nvPr/>
        </p:nvPicPr>
        <p:blipFill>
          <a:blip r:embed="rId1"/>
          <a:stretch/>
        </p:blipFill>
        <p:spPr>
          <a:xfrm>
            <a:off x="5929200" y="2643120"/>
            <a:ext cx="2205000" cy="2895840"/>
          </a:xfrm>
          <a:prstGeom prst="rect">
            <a:avLst/>
          </a:prstGeom>
          <a:ln w="0">
            <a:noFill/>
          </a:ln>
        </p:spPr>
      </p:pic>
      <p:sp>
        <p:nvSpPr>
          <p:cNvPr id="98" name="Dátum hely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1090-E694-455A-8898-88001D2E8FEF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134F-2465-43D1-8AC2-39B951EE2C8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1143000" y="3571920"/>
            <a:ext cx="414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gyensúlyt kell teremteni a kontroll és a káosz között, de a vezetés irodalma nem ad egységes megoldá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7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f497d"/>
                </a:solidFill>
                <a:latin typeface="Calibri"/>
              </a:rPr>
              <a:t>A SZERVEZETI VEZETÉS PERSPEKTÍVÁ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felső vezetés képes rá (és kell is), hogy „gondjaiba vegye” a szervezetet – ha felüti fejét valamilyen szervezeti betegség, a vezetés dolga azt kezelni; szükség van a „látható kézr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De: a vezető-lét nem jelent elköteleződést az autokratikus vezetési elv mellet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felső vezetés elszigetelten tervezi meg a stratégiát, utána vezeti be a szervezetb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Máskor elégséges az indirekt irányítás, alulról érkező javaslatok is megjelenhetn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Néhány döntést alsóbb szintekre delegálhat a vezet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SZERVEZET KÖVETI A STRATÉGIÁ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7392-9028-4EBA-A3B5-8B6E3CA2E38E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0536-C597-488D-8BED-25CD5321A57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f497d"/>
                </a:solidFill>
                <a:latin typeface="Calibri"/>
              </a:rPr>
              <a:t>Példa - Niss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13920" y="1571400"/>
            <a:ext cx="49294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1998-ban még nem volt képes profitot termel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Pár év múlva már az egyik legprofitálóbb autógyártó a világ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Carlos Ghosn – „Mission Impossibl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zigorú ellenőrzés, felelősségre vonhatóság, teljesítményért előléptetés és jut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2002: befektetések száma csökkent, 5 gyárat bezártak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Nissan Revial Plan” – 9 multifunkcionális csapat 2 hónap alat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2005: 180 új Nissan mod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709C-A90F-45D7-AEA2-921FA1072DBC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776D-B75C-4342-A973-8CBB69DB1A5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en.mercopress.com/data/cache/noticias/28094/0x0/carlos-ghosn.jpg"/>
          <p:cNvPicPr/>
          <p:nvPr/>
        </p:nvPicPr>
        <p:blipFill>
          <a:blip r:embed="rId1"/>
          <a:stretch/>
        </p:blipFill>
        <p:spPr>
          <a:xfrm>
            <a:off x="6357960" y="2143080"/>
            <a:ext cx="2332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79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f497d"/>
                </a:solidFill>
                <a:latin typeface="Calibri"/>
              </a:rPr>
              <a:t>A SZERVEZETI DINAMIKA PERSPEKTÍVÁ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erős vezető kivételes, inkább mítosz, mint való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szervezet összetett társadalmi rendszer, ezért új stratégia kialakítását és bevezetését a politikai, kulturális és tanulási dinamika messzemenően meghatározza – hosszú időt vesz igény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vezető ezért vagy nagyobb nyomást fejt ki, hogy érvényesíthesse akaratát, vagy nagyobb szabadságot ad az alsóbb szintekn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Új ötletek gyakran alsóbb szintekről érkeznek; ezeket támogatni kell, így a tanulás és innováció a szervezet szövetébe fog épül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áosz = a fejlődés alap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STRATÉGIA KÖVETI A SZERVEZETE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4F30-3A3F-488D-9E2D-CC955A5EE034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7D13-E42F-46EC-9647-4B8CF3B438C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llipszis 5"/>
          <p:cNvSpPr/>
          <p:nvPr/>
        </p:nvSpPr>
        <p:spPr>
          <a:xfrm>
            <a:off x="4500720" y="2357280"/>
            <a:ext cx="4319280" cy="431964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llipszis 8"/>
          <p:cNvSpPr/>
          <p:nvPr/>
        </p:nvSpPr>
        <p:spPr>
          <a:xfrm>
            <a:off x="4857840" y="2714760"/>
            <a:ext cx="3600360" cy="360036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f497d"/>
                </a:solidFill>
                <a:latin typeface="Calibri"/>
              </a:rPr>
              <a:t>Példa - Sem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13920" y="1142640"/>
            <a:ext cx="7472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Ricardo Semp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iker vezérigazgató és hagyományos szervezési hierarchia nélkü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Fő döntések demokratikus szavazással mindenki bevonásáv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Nincs belső ellenőrz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Szervezési alakzat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Nincs stratégiai tervez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gyetlen paraméter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emberek motiválta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legyen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599A-D098-49F5-9C5F-A49BC46BB369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000E-04B7-4514-BE33-AEABCA01597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llipszis 6"/>
          <p:cNvSpPr/>
          <p:nvPr/>
        </p:nvSpPr>
        <p:spPr>
          <a:xfrm>
            <a:off x="5214960" y="3071880"/>
            <a:ext cx="2879640" cy="287964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llipszis 7"/>
          <p:cNvSpPr/>
          <p:nvPr/>
        </p:nvSpPr>
        <p:spPr>
          <a:xfrm>
            <a:off x="5572080" y="3429000"/>
            <a:ext cx="2160720" cy="216072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zövegdoboz 9"/>
          <p:cNvSpPr/>
          <p:nvPr/>
        </p:nvSpPr>
        <p:spPr>
          <a:xfrm>
            <a:off x="6000840" y="42861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 tanácsad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zövegdoboz 10"/>
          <p:cNvSpPr/>
          <p:nvPr/>
        </p:nvSpPr>
        <p:spPr>
          <a:xfrm>
            <a:off x="6073560" y="5500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üzletköt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zövegdoboz 11"/>
          <p:cNvSpPr/>
          <p:nvPr/>
        </p:nvSpPr>
        <p:spPr>
          <a:xfrm>
            <a:off x="5929200" y="59292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koordinátoro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zövegdoboz 12"/>
          <p:cNvSpPr/>
          <p:nvPr/>
        </p:nvSpPr>
        <p:spPr>
          <a:xfrm>
            <a:off x="5859720" y="628668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többi munkatá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http://www.strategy-business.com/media/image/05408a.jpg"/>
          <p:cNvPicPr/>
          <p:nvPr/>
        </p:nvPicPr>
        <p:blipFill>
          <a:blip r:embed="rId1"/>
          <a:stretch/>
        </p:blipFill>
        <p:spPr>
          <a:xfrm>
            <a:off x="1500120" y="4643280"/>
            <a:ext cx="2786040" cy="18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1f497d"/>
                </a:solidFill>
                <a:latin typeface="Calibri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694A-6C98-417A-9E80-CAA46B05A817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D6B4-C7DA-4FFF-9832-634DFD1E28A3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357200"/>
          <a:ext cx="8329680" cy="4857840"/>
        </p:xfrm>
        <a:graphic>
          <a:graphicData uri="http://schemas.openxmlformats.org/drawingml/2006/table">
            <a:tbl>
              <a:tblPr/>
              <a:tblGrid>
                <a:gridCol w="2776680"/>
                <a:gridCol w="2776320"/>
                <a:gridCol w="2776680"/>
              </a:tblGrid>
              <a:tr h="424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rganizational leadership persp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Szervezeti vezetőség perspektívá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Organizational dynamics persp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(Szervezeti dinamizmus perspektívá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r" pos="1712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phasis 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r" pos="17128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Hangsúl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r" pos="1714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rol ov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r cha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r" pos="17146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 káosz feletti kontro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aos over contr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 kontrol feletti káosz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6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ganizational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 szervezeti fejlődé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rollable creation pro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Kontrolálható mesterséges folyamato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controllable evolutionary pro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Kontrolálhatatlan véletlenszerűen fejlődő</a:t>
                      </a:r>
                      <a:r>
                        <a:rPr b="0" lang="hu-H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lyamato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5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velop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ejlődésirányítá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e Top-down, imposed organiz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entről lefelé felépített szerveze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ttom-up, self-organiz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Lentről felfelé, önszerveződő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cision-ma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öntéshozá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horitarian (rule of the few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Tekintélyelvű, a kevesek irányítana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mocratic (rule of the man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Demokratikus, a többség irányí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3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ange proc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olyamat változtatá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der shapes new behavi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 vezető új magatartást alakít k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w behavior emerges from inter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z új magatartás interakcióból változik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8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ange determina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Befolyásoló tényező változás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ader's vision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and s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il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Vezető elképzelései és képessége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litical, cultural and learning dyna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Politikai, Kulturális és tanult mozgató erő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4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ganizational mallea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Szervezeti rugalmassá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igh, f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agyon gyors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w, slo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agyon lass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velopment dr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Fejlesztés irányít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ganization follows strate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 szervezet követi a stratégiá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ategy follows organiz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A stratégia követi a szervezete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23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rmative impli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Irányadó befolyá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ategize, then organiz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Kitalálja a stratégiát és utána jön a szervezé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tra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gizing and organizing intertw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Kitalálja</a:t>
                      </a:r>
                      <a:r>
                        <a:rPr b="0" lang="hu-H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 stratégiát és utána beavatkoznak a szervezetb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Calibri"/>
              </a:rPr>
              <a:t>Köszönjük a figyelme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1f497d"/>
                </a:solidFill>
                <a:latin typeface="Calibri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szervezetekben – mint a családokban – az új generációk nem „nulláról indulnak”, megöröklik az elődök tulajdon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vállalati kultúra (hagyományo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vállalati folyamatok (szokások, cselekvési formá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ülső-belső kapcsolatok, ellenté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épességek-adottságok, erőforrás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öröklés azonban gyakran a szervezet merevségét okozza, azaz gátolja a fejlődés újszerű útja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zért az örökség egy részétől el kell tekinteni – de ki változtat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a menedzserek, de nem egy személy! (mindenkinek meg kell legyen a maga felelősségi kör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meghatározzák a felelősségi köröket, ki hol a leghatékonyab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B7C6-32C1-44BD-86A4-767FA149DDBF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328E-C566-4F07-9AC2-633B818DBEF0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1f497d"/>
                </a:solidFill>
                <a:latin typeface="Calibri"/>
              </a:rPr>
              <a:t>A SZERVEZETI FEJLŐDÉ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- Alapfogalmak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1f497d"/>
                </a:solidFill>
                <a:latin typeface="Calibri"/>
              </a:rPr>
              <a:t>Mi a vezeté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vezetőség befolyásolja a cég tagjainak viselkedését és nézeteit meghatározott szervezési célnak megfelelőe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atalommal, befolyással bírni mások felett („Követő nélkül nincs vezető”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Menedzser: 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olyan személy, akinek formális pozíciója van a szervezeti hierarchiában, ehhez tartozó hatalommal, jogkörrel és felelősségg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Vezető: 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olyan személy, akinek megvan az a képessége, hogy befolyással bírjanak más emberek cselekedetére. Ezen szerep betöltéséhez hatalomra (befolyásra) van szükségük. Tudniuk kell, hogyan szerezzék meg ezt a hatalmat és, hogy hol gyakorolják ez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EE34-D5D0-403C-88FB-BAF48BA21EAD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A729-7201-41E4-B902-261DC529CD11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1f497d"/>
                </a:solidFill>
                <a:latin typeface="Calibri"/>
              </a:rPr>
              <a:t>A vezetői befolyás forrása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2 alapvető forrása lehet a vezetői hatalomnak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 szervezetben betöltött pozíció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A vezető személye (személyiség, tudás, ismeretek, kapcsolatok) – a személyiség hatalma nem eleve adott, ki kell vívni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alibri"/>
              </a:rPr>
              <a:t>További kategóriákra osztható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Törvényi hatalom  (Legitimate power)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Calibri"/>
              </a:rPr>
              <a:t>a vezetőnek formális tekintélye van a szervezetbe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Calibri"/>
              </a:rPr>
              <a:t>szervezeti viselkedések meghatározása (munka kiadása, pénz elköltése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Kényszerítő hatalom  (Coercive power)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Calibri"/>
              </a:rPr>
              <a:t>büntetés/jutalom megvonás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Jutalmazó hatalom (Reward power)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1300" spc="-1" strike="noStrike">
                <a:solidFill>
                  <a:srgbClr val="000000"/>
                </a:solidFill>
                <a:latin typeface="Calibri"/>
              </a:rPr>
              <a:t>kényszerítő hatalom ellentét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Calibri"/>
              </a:rPr>
              <a:t>Teljesítés esetén pl.: dicséret, béremelés, előlépteté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Szakértő hatalom (Expert power)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Calibri"/>
              </a:rPr>
              <a:t>magasabb rangú tudás egy fontos területen, mely motiválja a tagok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000000"/>
                </a:solidFill>
                <a:latin typeface="Calibri"/>
              </a:rPr>
              <a:t>Cél hatalom (Referent pow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Calibri"/>
              </a:rPr>
              <a:t>karizmatikus fellépé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Calibri"/>
              </a:rPr>
              <a:t>Számos tényezőtől függ: pl.: kedvelhetőség, rábeszélőképesség, erélyesség, sikerkép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C34F-75AA-4508-9EE5-542FA8806FED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7E02-3D95-40D2-9616-92A6DA18822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1f497d"/>
                </a:solidFill>
                <a:latin typeface="Calibri"/>
              </a:rPr>
              <a:t>A vezetői befolyás eszköze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3 alapvető módja van a befolyás gyakorlásának, aszerint, hogy a befolyásolt emberek tevékenységének mely pontjára fókuszálu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THROUGHPUT irányítás – közvetlen irányí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Közvetlenül a szervezet tagjainak cselekvésére irányul, a vezető maga is aktív részese a folyamatokna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egköveteli a részletes tudást mások tevékenységérő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OUTPUT irányítás – kimenő irányí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Nem közvetlen irányítás, hanem a célok meghatár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INPUT irányítás – belső irányí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vezető a cselekvések feltételeit, a körülményeket befolyásolja (ez a legnagyobb befolyás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ktuális munka körülményei, csapat létrehozá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CABE-254B-4151-90B5-38059423CF67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5501-0743-4CD5-A30F-BE391226BD2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1f497d"/>
                </a:solidFill>
                <a:latin typeface="Calibri"/>
              </a:rPr>
              <a:t>A vezetői befolyás tere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3 terület van, ahova a vezetők irányítják befolyásukat, hogy stratégiai változást érjenek el (ezek hagyományosan a változásra legkevésbé hajlamos területek = szervezeti alrendszere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POLITIKAI terület (political are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hatalmi viszonyok a szervezetben – ki kit támog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ULTURÁLIS terület (cultural are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szervezet tagjainak meggyőződése, magatartási normá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PSZICHOLÓGIAI terület (psychological are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szervezet tagjainak pszichológiai-érzelmi szükséglete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71BE-4609-4783-812A-A2037670CE3C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2702-0991-4D54-869B-6DE3D9C3282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1f497d"/>
                </a:solidFill>
                <a:latin typeface="Calibri"/>
              </a:rPr>
              <a:t>A káosz és az irányítás paradoxo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71720" y="1785960"/>
            <a:ext cx="52149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1f497d"/>
                </a:solidFill>
                <a:latin typeface="Calibri"/>
              </a:rPr>
              <a:t>„</a:t>
            </a:r>
            <a:r>
              <a:rPr b="0" lang="hu-HU" sz="2000" spc="-1" strike="noStrike">
                <a:solidFill>
                  <a:srgbClr val="1f497d"/>
                </a:solidFill>
                <a:latin typeface="Calibri"/>
              </a:rPr>
              <a:t>Az az emberek legkeserűbb baja, hogy sok mindent belátnak ugyan, de úrrá lenni semmin nem képesek.”</a:t>
            </a:r>
            <a:br>
              <a:rPr sz="2000"/>
            </a:br>
            <a:r>
              <a:rPr b="0" lang="hu-HU" sz="2000" spc="-1" strike="noStrike">
                <a:solidFill>
                  <a:srgbClr val="1f497d"/>
                </a:solidFill>
                <a:latin typeface="Calibri"/>
              </a:rPr>
              <a:t>(Hérodotos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Tartalom helye 6" descr="herodotosz.jpg"/>
          <p:cNvPicPr/>
          <p:nvPr/>
        </p:nvPicPr>
        <p:blipFill>
          <a:blip r:embed="rId1"/>
          <a:stretch/>
        </p:blipFill>
        <p:spPr>
          <a:xfrm>
            <a:off x="6357960" y="1928880"/>
            <a:ext cx="1990800" cy="2838240"/>
          </a:xfrm>
          <a:prstGeom prst="rect">
            <a:avLst/>
          </a:prstGeom>
          <a:ln w="0">
            <a:noFill/>
          </a:ln>
        </p:spPr>
      </p:pic>
      <p:sp>
        <p:nvSpPr>
          <p:cNvPr id="75" name="Dátum hely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51EE-69DA-48B2-8756-A3A75C9F0ABB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ia számának hely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292E-4D57-4130-975E-DE0B2AAD153C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zövegdoboz 14"/>
          <p:cNvSpPr/>
          <p:nvPr/>
        </p:nvSpPr>
        <p:spPr>
          <a:xfrm>
            <a:off x="1143000" y="3000240"/>
            <a:ext cx="3500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menedzserek irányítják a szervezet fejlődésé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el kell „engedni” az irányítást, hogy a cég jól működhes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Balra-jobbra nyíl 22"/>
          <p:cNvSpPr/>
          <p:nvPr/>
        </p:nvSpPr>
        <p:spPr>
          <a:xfrm rot="5400000">
            <a:off x="2492280" y="3794040"/>
            <a:ext cx="650880" cy="349200"/>
          </a:xfrm>
          <a:prstGeom prst="leftRightArrow">
            <a:avLst>
              <a:gd name="adj1" fmla="val 50000"/>
              <a:gd name="adj2" fmla="val 4986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Bal oldali kapcsos zárójel 23"/>
          <p:cNvSpPr/>
          <p:nvPr/>
        </p:nvSpPr>
        <p:spPr>
          <a:xfrm flipH="1">
            <a:off x="4357080" y="3143160"/>
            <a:ext cx="500040" cy="1785960"/>
          </a:xfrm>
          <a:custGeom>
            <a:avLst/>
            <a:gdLst>
              <a:gd name="textAreaLeft" fmla="*/ 319320 w 500040"/>
              <a:gd name="textAreaRight" fmla="*/ 500040 w 500040"/>
              <a:gd name="textAreaTop" fmla="*/ 12960 h 1785960"/>
              <a:gd name="textAreaBottom" fmla="*/ 1773000 h 178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52"/>
                  <a:pt x="10800" y="504"/>
                </a:cubicBezTo>
                <a:lnTo>
                  <a:pt x="10800" y="10296"/>
                </a:lnTo>
                <a:cubicBezTo>
                  <a:pt x="10800" y="10548"/>
                  <a:pt x="5400" y="10800"/>
                  <a:pt x="0" y="10800"/>
                </a:cubicBezTo>
                <a:cubicBezTo>
                  <a:pt x="5400" y="10800"/>
                  <a:pt x="10800" y="11052"/>
                  <a:pt x="10800" y="11304"/>
                </a:cubicBezTo>
                <a:lnTo>
                  <a:pt x="10800" y="21096"/>
                </a:lnTo>
                <a:cubicBezTo>
                  <a:pt x="10800" y="213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zövegdoboz 24"/>
          <p:cNvSpPr/>
          <p:nvPr/>
        </p:nvSpPr>
        <p:spPr>
          <a:xfrm>
            <a:off x="4857840" y="3857760"/>
            <a:ext cx="13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HÚZÓER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zövegdoboz 31"/>
          <p:cNvSpPr/>
          <p:nvPr/>
        </p:nvSpPr>
        <p:spPr>
          <a:xfrm>
            <a:off x="1143000" y="5286240"/>
            <a:ext cx="67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Stratégiai paradoxon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: felülről irányít, de az alulról jövő kezdeményezésre is nyitot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79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1f497d"/>
                </a:solidFill>
                <a:latin typeface="Calibri"/>
              </a:rPr>
              <a:t>FELSŐVEZETŐI KONTROL ↔ SZERVEZETI KÁOS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ONTROL: irányítás, rendteremtés; a menedzser feladata biztosítani, hogy a szervezet a környezettel összhangban változz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Támogatói kör kialakítása, a fennálló meggyőződések kétségbe vonása, dolgozók megnyer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LÁTHATó KÉZ” – szovjet tervgazdálkod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KÁOSZ: szervezeti értelemben a rendezetlenség állapotának felel meg, a szervezettség (ideiglenes) felboml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zervezetlenség időszaka gyakran előfeltétele a stratégiai megújulásna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Elősegíti az önszerveződé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LÁTHATATLAN KÉZ” – nyugati piacgazdasá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Dátum helye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02F5-A0BC-4088-A487-58B49C11E796}" type="datetime">
              <a:rPr b="0" lang="hu-HU" sz="1200" spc="-1" strike="noStrike">
                <a:solidFill>
                  <a:srgbClr val="898989"/>
                </a:solidFill>
                <a:latin typeface="Calibri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Dia számának hely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9BA9-7621-436C-A6BC-1541AA2A92A7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1:02:44Z</dcterms:created>
  <dc:creator>user</dc:creator>
  <dc:description/>
  <dc:language>en-US</dc:language>
  <cp:lastModifiedBy>Papp Ilona</cp:lastModifiedBy>
  <dcterms:modified xsi:type="dcterms:W3CDTF">2011-12-14T10:20:22Z</dcterms:modified>
  <cp:revision>127</cp:revision>
  <dc:subject/>
  <dc:title>A stratégia SZERVEZETI kontextusa</dc:title>
</cp:coreProperties>
</file>