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F59E-8788-40A0-88AB-2EED90DDEBE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EC85-FDD6-4299-B557-BE49D6CAE7F9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73EB-5841-4D22-9B8C-8EE3C7C6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C11A-E636-4096-927F-23CF2033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EFA9-A509-404C-98AD-1C9307EA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DE7-6CD3-476F-9C23-AE151D7A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65C4-F206-47CE-A9AA-C856A7AC5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2712-2D64-4166-AF61-A65B7AB8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AA23-38F4-41BF-BB92-67DD0A58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DA6C-91F7-4CC1-97F2-8D95BD60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E101-8DA0-419D-B462-52A51FA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BB86-EAC9-41FD-9DD9-27606EB3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BC61-231B-4E77-9D7B-BB95CCF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8F3-0729-483C-B5D1-1A56F9E7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611A-33B6-4F93-85AE-F129169A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2249-4714-4514-8D7C-12D5A3BD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3768-CEB6-4776-B093-6897207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4BCE-706A-42A7-ABA1-C0D2082D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E70-C6A3-4E0D-B3FD-1E2ADF28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04A1-28FA-411B-BB0A-037685F6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8A6C-C130-4C61-AD6D-9FE6A7E9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701A-63D3-417F-8B65-50847BE6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4861-572D-4B3D-8EB1-905AB90D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A084-6C3D-482A-8A65-182CCD3E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4D0D-0A4C-4C8C-B4E9-0B86E16F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21FC-E277-496C-A2B8-FAA239B2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A5EA9-F319-467D-AD17-F479146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20E6C-D112-427A-BED1-65E85791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A4A53-89E7-4855-95F8-23D2BC91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3E8EA-FCD0-4457-BD55-D3BDA5E2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CCAF-4DC8-4B49-8056-D54CD225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E4B2D-D6FC-4523-9B36-38CA13D8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4DAEF-7050-43B6-B015-C707FA3B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1E4B1-49F9-49C6-961C-6D5ADBBB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F8A2-50DB-4BED-9A65-44DF08AC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B88-EA11-4D6E-8676-60D35FC7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2CBBB-35B9-4A50-9E37-196E203D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996E7-FA26-4303-BB4D-6553499F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7DEF5-4495-4F96-9711-A14B59F0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A828-8DF1-4FDE-9F71-E00A221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FDE9C-53D5-4AC1-9EE3-5BD998D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64CF-1798-40F0-B3F5-0142D5C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A3427-CC20-4E13-8B68-7D38088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01F61-04FD-4FA1-82F7-5832F426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F0070-8956-436F-A546-114B797D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F63-4726-48EB-BB55-3A08AC96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F411-D37D-45CD-95EC-6ABFDC20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944-35C2-4C7B-B413-100BB051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604-7FA6-4BAD-8016-603256A0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38A-578D-4947-800F-0C590942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8080-C723-417D-982A-EC5E4C64A808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72CC-9A55-41D1-81E8-1C2BC3296E3A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" descr="jhátté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5E30-507B-48E2-9AE0-8578DC42780E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6F35-78E8-4B33-AADF-35EB9F286513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jhátté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AF68-6EBA-46ED-8721-07E7D0E9D92B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9BB-B21C-4825-B3B5-0CC09FDD95DF}" type="slidenum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jhátté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D551-713C-4D92-AA81-0E644DCF3DFE}" type="datetime">
              <a:rPr b="0" lang="hu-HU" sz="1200" spc="-1" strike="noStrike">
                <a:solidFill>
                  <a:srgbClr val="898989"/>
                </a:solidFill>
                <a:latin typeface="Times New Roman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F070-7E13-4088-879B-6E9BEC8CAAB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8028000" cy="1871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txBody>
          <a:bodyPr anchor="ctr">
            <a:noAutofit/>
          </a:bodyPr>
          <a:p>
            <a:pPr marL="35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DUSTRY CONTEX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492360" y="5300640"/>
            <a:ext cx="54324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grpSp>
        <p:nvGrpSpPr>
          <p:cNvPr id="176" name="Csoportba foglalás 5"/>
          <p:cNvGrpSpPr/>
          <p:nvPr/>
        </p:nvGrpSpPr>
        <p:grpSpPr>
          <a:xfrm>
            <a:off x="7308720" y="1147680"/>
            <a:ext cx="1656000" cy="1384920"/>
            <a:chOff x="7308720" y="1147680"/>
            <a:chExt cx="1656000" cy="1384920"/>
          </a:xfrm>
        </p:grpSpPr>
        <p:sp>
          <p:nvSpPr>
            <p:cNvPr id="177" name="Szövegdoboz 3"/>
            <p:cNvSpPr/>
            <p:nvPr/>
          </p:nvSpPr>
          <p:spPr>
            <a:xfrm>
              <a:off x="7308720" y="1219680"/>
              <a:ext cx="1656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Bodoni MT Condensed"/>
                </a:rPr>
                <a:t>8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zövegdoboz 4"/>
            <p:cNvSpPr/>
            <p:nvPr/>
          </p:nvSpPr>
          <p:spPr>
            <a:xfrm>
              <a:off x="7308720" y="1147680"/>
              <a:ext cx="165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Bodoni MT Condensed"/>
                </a:rPr>
                <a:t>CHAPT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Cím 1"/>
          <p:cNvSpPr/>
          <p:nvPr/>
        </p:nvSpPr>
        <p:spPr>
          <a:xfrm>
            <a:off x="1116000" y="2889360"/>
            <a:ext cx="8028000" cy="1871640"/>
          </a:xfrm>
          <a:prstGeom prst="rect">
            <a:avLst/>
          </a:prstGeom>
          <a:solidFill>
            <a:srgbClr val="1025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96000" tIns="46800" bIns="46800" anchor="ctr">
            <a:noAutofit/>
          </a:bodyPr>
          <a:p>
            <a:pPr marL="313848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Z IPARI KÖRNYEZ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Dia számának helye 1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60185-A581-4761-9769-E85763B31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Dátum helye 15"/>
          <p:cNvSpPr/>
          <p:nvPr/>
        </p:nvSpPr>
        <p:spPr>
          <a:xfrm>
            <a:off x="1116000" y="5905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894F-549C-4480-9F0E-545A8092E7C1}" type="datetime">
              <a:rPr b="0" lang="en-US" sz="24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Üzletágak közötti határok összemosódása → horizontális integráció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háztartási elektronika, védelmi ip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aját üzletág → horizontálisan szétdarabolódó struktú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építőipar, légitársaság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F23C-4249-4AF5-93DE-D5178FF1D0C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10. fejezet bővebben taglalj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B84C-0722-473D-A1E5-E98B424B328B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Terjeszkedés –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övekvő kereslet → terjeszked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Csökkenő kereslet → zsugorod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em mindig iga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Lehet ciklikus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C7A-6888-4C64-9B70-DE3BADFAC78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irá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2" descr="C:\Users\Rajmi\Desktop\stratmen\scan 3.jpg"/>
          <p:cNvPicPr/>
          <p:nvPr/>
        </p:nvPicPr>
        <p:blipFill>
          <a:blip r:embed="rId2"/>
          <a:srcRect l="4940" t="19469" r="7743" b="7050"/>
          <a:stretch/>
        </p:blipFill>
        <p:spPr>
          <a:xfrm>
            <a:off x="1258920" y="1773360"/>
            <a:ext cx="7777080" cy="3635280"/>
          </a:xfrm>
          <a:prstGeom prst="rect">
            <a:avLst/>
          </a:prstGeom>
          <a:ln w="0">
            <a:noFill/>
          </a:ln>
        </p:spPr>
      </p:pic>
      <p:sp>
        <p:nvSpPr>
          <p:cNvPr id="235" name="Dia számának helye 11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13C3-4917-45A3-83A6-21107EA73F7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A fejlesztés domináns üzleti modelljének típusa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Dia számának helye 4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842-3985-4050-9D0B-6F465E1A2F64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Csoportba foglalás 11"/>
          <p:cNvGrpSpPr/>
          <p:nvPr/>
        </p:nvGrpSpPr>
        <p:grpSpPr>
          <a:xfrm>
            <a:off x="2340000" y="1341360"/>
            <a:ext cx="5653080" cy="4986360"/>
            <a:chOff x="2340000" y="1341360"/>
            <a:chExt cx="5653080" cy="4986360"/>
          </a:xfrm>
        </p:grpSpPr>
        <p:pic>
          <p:nvPicPr>
            <p:cNvPr id="239" name="Picture 2" descr="C:\Users\Rajmi\Desktop\stratmen\scan 4.jpg"/>
            <p:cNvPicPr/>
            <p:nvPr/>
          </p:nvPicPr>
          <p:blipFill>
            <a:blip r:embed="rId2"/>
            <a:srcRect l="7107" t="13599" r="2909" b="2435"/>
            <a:stretch/>
          </p:blipFill>
          <p:spPr>
            <a:xfrm>
              <a:off x="2340000" y="1341360"/>
              <a:ext cx="565308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Szövegdoboz 5"/>
            <p:cNvSpPr/>
            <p:nvPr/>
          </p:nvSpPr>
          <p:spPr>
            <a:xfrm>
              <a:off x="2880000" y="1557360"/>
              <a:ext cx="1116000" cy="763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00000"/>
                  </a:solidFill>
                  <a:latin typeface="Calibri"/>
                </a:rPr>
                <a:t>Fokozatos fejlesztés</a:t>
              </a:r>
              <a:br>
                <a:rPr sz="1100"/>
              </a:br>
              <a:r>
                <a:rPr b="0" lang="hu-HU" sz="1100" spc="-1" strike="noStrike">
                  <a:solidFill>
                    <a:srgbClr val="000000"/>
                  </a:solidFill>
                  <a:latin typeface="Calibri"/>
                </a:rPr>
                <a:t>(egyensúlyi  környezet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Szövegdoboz 6"/>
            <p:cNvSpPr/>
            <p:nvPr/>
          </p:nvSpPr>
          <p:spPr>
            <a:xfrm>
              <a:off x="5616720" y="1599480"/>
              <a:ext cx="1250280" cy="930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00000"/>
                  </a:solidFill>
                  <a:latin typeface="Calibri"/>
                </a:rPr>
                <a:t>Folyamatos fejlesztés</a:t>
              </a:r>
              <a:br>
                <a:rPr sz="1100"/>
              </a:br>
              <a:r>
                <a:rPr b="0" lang="hu-HU" sz="1100" spc="-1" strike="noStrike">
                  <a:solidFill>
                    <a:srgbClr val="000000"/>
                  </a:solidFill>
                  <a:latin typeface="Calibri"/>
                </a:rPr>
                <a:t> (változó egyensúlyi  környezet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Szövegdoboz 7"/>
            <p:cNvSpPr/>
            <p:nvPr/>
          </p:nvSpPr>
          <p:spPr>
            <a:xfrm>
              <a:off x="2880000" y="3969720"/>
              <a:ext cx="1116000" cy="930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00000"/>
                  </a:solidFill>
                  <a:latin typeface="Calibri"/>
                </a:rPr>
                <a:t>Szakaszos fejlesztés </a:t>
              </a:r>
              <a:r>
                <a:rPr b="0" lang="hu-HU" sz="1100" spc="-1" strike="noStrike">
                  <a:solidFill>
                    <a:srgbClr val="000000"/>
                  </a:solidFill>
                  <a:latin typeface="Calibri"/>
                </a:rPr>
                <a:t>(pontosan egyensúlyi  környezet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Szövegdoboz 10"/>
            <p:cNvSpPr/>
            <p:nvPr/>
          </p:nvSpPr>
          <p:spPr>
            <a:xfrm>
              <a:off x="5616720" y="4041720"/>
              <a:ext cx="1152000" cy="6699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100" spc="-1" strike="noStrike">
                  <a:solidFill>
                    <a:srgbClr val="000000"/>
                  </a:solidFill>
                  <a:latin typeface="Calibri"/>
                </a:rPr>
                <a:t>Hiperversenyző fejlesztés</a:t>
              </a:r>
              <a:br>
                <a:rPr sz="1100"/>
              </a:br>
              <a:r>
                <a:rPr b="0" lang="hu-HU" sz="1100" spc="-1" strike="noStrike">
                  <a:solidFill>
                    <a:srgbClr val="000000"/>
                  </a:solidFill>
                  <a:latin typeface="Calibri"/>
                </a:rPr>
                <a:t> (nem egyensúlyi  környezet)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4" name="Szövegdoboz 12" descr=""/>
          <p:cNvPicPr/>
          <p:nvPr/>
        </p:nvPicPr>
        <p:blipFill>
          <a:blip r:embed="rId7"/>
          <a:stretch/>
        </p:blipFill>
        <p:spPr>
          <a:xfrm>
            <a:off x="2395440" y="2163600"/>
            <a:ext cx="274680" cy="1268640"/>
          </a:xfrm>
          <a:prstGeom prst="rect">
            <a:avLst/>
          </a:prstGeom>
          <a:ln w="0">
            <a:noFill/>
          </a:ln>
        </p:spPr>
      </p:pic>
      <p:pic>
        <p:nvPicPr>
          <p:cNvPr id="245" name="Szövegdoboz 20" descr=""/>
          <p:cNvPicPr/>
          <p:nvPr/>
        </p:nvPicPr>
        <p:blipFill>
          <a:blip r:embed="rId8"/>
          <a:stretch/>
        </p:blipFill>
        <p:spPr>
          <a:xfrm>
            <a:off x="2395440" y="4711680"/>
            <a:ext cx="274680" cy="1268280"/>
          </a:xfrm>
          <a:prstGeom prst="rect">
            <a:avLst/>
          </a:prstGeom>
          <a:ln w="0">
            <a:noFill/>
          </a:ln>
        </p:spPr>
      </p:pic>
      <p:pic>
        <p:nvPicPr>
          <p:cNvPr id="246" name="Szövegdoboz 21" descr=""/>
          <p:cNvPicPr/>
          <p:nvPr/>
        </p:nvPicPr>
        <p:blipFill>
          <a:blip r:embed="rId9"/>
          <a:stretch/>
        </p:blipFill>
        <p:spPr>
          <a:xfrm>
            <a:off x="5237280" y="2133720"/>
            <a:ext cx="272880" cy="1268280"/>
          </a:xfrm>
          <a:prstGeom prst="rect">
            <a:avLst/>
          </a:prstGeom>
          <a:ln w="0">
            <a:noFill/>
          </a:ln>
        </p:spPr>
      </p:pic>
      <p:pic>
        <p:nvPicPr>
          <p:cNvPr id="247" name="Szövegdoboz 22" descr=""/>
          <p:cNvPicPr/>
          <p:nvPr/>
        </p:nvPicPr>
        <p:blipFill>
          <a:blip r:embed="rId10"/>
          <a:stretch/>
        </p:blipFill>
        <p:spPr>
          <a:xfrm>
            <a:off x="5237280" y="4681440"/>
            <a:ext cx="272880" cy="1268640"/>
          </a:xfrm>
          <a:prstGeom prst="rect">
            <a:avLst/>
          </a:prstGeom>
          <a:ln w="0">
            <a:noFill/>
          </a:ln>
        </p:spPr>
      </p:pic>
      <p:sp>
        <p:nvSpPr>
          <p:cNvPr id="248" name="Szövegdoboz 23"/>
          <p:cNvSpPr/>
          <p:nvPr/>
        </p:nvSpPr>
        <p:spPr>
          <a:xfrm>
            <a:off x="3419640" y="3501360"/>
            <a:ext cx="32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632523"/>
                </a:solidFill>
                <a:latin typeface="Calibri"/>
              </a:rPr>
              <a:t>Id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zövegdoboz 24"/>
          <p:cNvSpPr/>
          <p:nvPr/>
        </p:nvSpPr>
        <p:spPr>
          <a:xfrm>
            <a:off x="6264360" y="3501360"/>
            <a:ext cx="32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632523"/>
                </a:solidFill>
                <a:latin typeface="Calibri"/>
              </a:rPr>
              <a:t>Id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zövegdoboz 25"/>
          <p:cNvSpPr/>
          <p:nvPr/>
        </p:nvSpPr>
        <p:spPr>
          <a:xfrm>
            <a:off x="3419640" y="5950440"/>
            <a:ext cx="32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632523"/>
                </a:solidFill>
                <a:latin typeface="Calibri"/>
              </a:rPr>
              <a:t>Id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zövegdoboz 26"/>
          <p:cNvSpPr/>
          <p:nvPr/>
        </p:nvSpPr>
        <p:spPr>
          <a:xfrm>
            <a:off x="6264360" y="5986080"/>
            <a:ext cx="3236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632523"/>
                </a:solidFill>
                <a:latin typeface="Calibri"/>
              </a:rPr>
              <a:t>Id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C:\Users\Rajmi\Desktop\alien00.jpg"/>
          <p:cNvPicPr/>
          <p:nvPr/>
        </p:nvPicPr>
        <p:blipFill>
          <a:blip r:embed="rId1"/>
          <a:stretch/>
        </p:blipFill>
        <p:spPr>
          <a:xfrm>
            <a:off x="4011480" y="4784760"/>
            <a:ext cx="590760" cy="8301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2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mozgat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Csoportba foglalás 43"/>
          <p:cNvGrpSpPr/>
          <p:nvPr/>
        </p:nvGrpSpPr>
        <p:grpSpPr>
          <a:xfrm>
            <a:off x="1187280" y="1197000"/>
            <a:ext cx="7861320" cy="5265720"/>
            <a:chOff x="1187280" y="1197000"/>
            <a:chExt cx="7861320" cy="5265720"/>
          </a:xfrm>
        </p:grpSpPr>
        <p:sp>
          <p:nvSpPr>
            <p:cNvPr id="255" name="Téglalap 42"/>
            <p:cNvSpPr/>
            <p:nvPr/>
          </p:nvSpPr>
          <p:spPr>
            <a:xfrm>
              <a:off x="1187280" y="1197000"/>
              <a:ext cx="7861320" cy="526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6" name="Csoportba foglalás 38"/>
            <p:cNvGrpSpPr/>
            <p:nvPr/>
          </p:nvGrpSpPr>
          <p:grpSpPr>
            <a:xfrm>
              <a:off x="1269360" y="1341000"/>
              <a:ext cx="7707240" cy="4932000"/>
              <a:chOff x="1269360" y="1341000"/>
              <a:chExt cx="7707240" cy="4932000"/>
            </a:xfrm>
          </p:grpSpPr>
          <p:grpSp>
            <p:nvGrpSpPr>
              <p:cNvPr id="257" name="Csoportba foglalás 37"/>
              <p:cNvGrpSpPr/>
              <p:nvPr/>
            </p:nvGrpSpPr>
            <p:grpSpPr>
              <a:xfrm>
                <a:off x="1269360" y="1341000"/>
                <a:ext cx="7707240" cy="4932000"/>
                <a:chOff x="1269360" y="1341000"/>
                <a:chExt cx="7707240" cy="4932000"/>
              </a:xfrm>
            </p:grpSpPr>
            <p:grpSp>
              <p:nvGrpSpPr>
                <p:cNvPr id="258" name="Csoportba foglalás 20"/>
                <p:cNvGrpSpPr/>
                <p:nvPr/>
              </p:nvGrpSpPr>
              <p:grpSpPr>
                <a:xfrm>
                  <a:off x="1269360" y="1341000"/>
                  <a:ext cx="7707240" cy="4932000"/>
                  <a:chOff x="1269360" y="1341000"/>
                  <a:chExt cx="7707240" cy="4932000"/>
                </a:xfrm>
              </p:grpSpPr>
              <p:sp>
                <p:nvSpPr>
                  <p:cNvPr id="259" name="Ellipszis 4"/>
                  <p:cNvSpPr/>
                  <p:nvPr/>
                </p:nvSpPr>
                <p:spPr>
                  <a:xfrm>
                    <a:off x="1269360" y="1341000"/>
                    <a:ext cx="2389320" cy="1271520"/>
                  </a:xfrm>
                  <a:prstGeom prst="ellipse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pPr algn="ctr">
                      <a:lnSpc>
                        <a:spcPct val="8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Szocio-kulturális mozgat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változó egészségügyi igények, környezettudatosság, fogyasztási szokások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0" name="Ellipszis 6"/>
                  <p:cNvSpPr/>
                  <p:nvPr/>
                </p:nvSpPr>
                <p:spPr>
                  <a:xfrm>
                    <a:off x="6587280" y="1341000"/>
                    <a:ext cx="2389320" cy="1271520"/>
                  </a:xfrm>
                  <a:prstGeom prst="ellipse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Gazdasági mozgat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változó  árfolyamok, gazdaságos növekedés, munkatermelékenység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1" name="Ellipszis 7"/>
                  <p:cNvSpPr/>
                  <p:nvPr/>
                </p:nvSpPr>
                <p:spPr>
                  <a:xfrm>
                    <a:off x="1346400" y="5001480"/>
                    <a:ext cx="2389320" cy="1271520"/>
                  </a:xfrm>
                  <a:prstGeom prst="ellipse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Politikai/Szabályozási mozgat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új kereskedelmi szabályozások, környezetvédelmi törvények, privatizációs lépések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2" name="Ellipszis 8"/>
                  <p:cNvSpPr/>
                  <p:nvPr/>
                </p:nvSpPr>
                <p:spPr>
                  <a:xfrm>
                    <a:off x="6587280" y="5001480"/>
                    <a:ext cx="2389320" cy="1271520"/>
                  </a:xfrm>
                  <a:prstGeom prst="ellipse">
                    <a:avLst/>
                  </a:prstGeom>
                  <a:solidFill>
                    <a:srgbClr val="e6b9b8"/>
                  </a:solidFill>
                  <a:ln w="9360">
                    <a:solidFill>
                      <a:srgbClr val="95373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noAutofit/>
                  </a:bodyPr>
                  <a:p>
                    <a:pPr algn="ctr">
                      <a:lnSpc>
                        <a:spcPct val="7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Technológiai mozgat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új tudományos áttörések, innovatív technológiák, kommunikációs szabványok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3" name="Téglalap 9"/>
                  <p:cNvSpPr/>
                  <p:nvPr/>
                </p:nvSpPr>
                <p:spPr>
                  <a:xfrm>
                    <a:off x="4275000" y="1341000"/>
                    <a:ext cx="1811160" cy="1078920"/>
                  </a:xfrm>
                  <a:prstGeom prst="rect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08000" rIns="108000" tIns="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Ellát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innovatív termékek, 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új külföldi versenytársak, konszolidáció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4" name="Téglalap 16"/>
                  <p:cNvSpPr/>
                  <p:nvPr/>
                </p:nvSpPr>
                <p:spPr>
                  <a:xfrm>
                    <a:off x="1539000" y="3151800"/>
                    <a:ext cx="1811160" cy="1078920"/>
                  </a:xfrm>
                  <a:prstGeom prst="rect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Helyettesítők és kiegészítő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megváltozott termékválaszték, 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új technológiai szabvány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5" name="Téglalap 17"/>
                  <p:cNvSpPr/>
                  <p:nvPr/>
                </p:nvSpPr>
                <p:spPr>
                  <a:xfrm>
                    <a:off x="6972840" y="3151800"/>
                    <a:ext cx="1811160" cy="1078920"/>
                  </a:xfrm>
                  <a:prstGeom prst="rect">
                    <a:avLst/>
                  </a:prstGeom>
                  <a:blipFill rotWithShape="0">
                    <a:blip r:embed="rId5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Új belépő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új üzleti modell, változatos stratégia, 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új szövetség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6" name="Téglalap 18"/>
                  <p:cNvSpPr/>
                  <p:nvPr/>
                </p:nvSpPr>
                <p:spPr>
                  <a:xfrm>
                    <a:off x="4275000" y="5194080"/>
                    <a:ext cx="1811160" cy="1078920"/>
                  </a:xfrm>
                  <a:prstGeom prst="rect">
                    <a:avLst/>
                  </a:prstGeom>
                  <a:blipFill rotWithShape="0">
                    <a:blip r:embed="rId6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Vásárló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változó szükségletek, növekvő árérzékenység, alacsonyabb márkahűség)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67" name="Téglalap 19"/>
                  <p:cNvSpPr/>
                  <p:nvPr/>
                </p:nvSpPr>
                <p:spPr>
                  <a:xfrm>
                    <a:off x="3928320" y="2805120"/>
                    <a:ext cx="2466360" cy="196488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1008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Versenytársak</a:t>
                    </a:r>
                    <a:br>
                      <a:rPr sz="1300"/>
                    </a:br>
                    <a:r>
                      <a:rPr b="0" lang="hu-HU" sz="1300" spc="-1" strike="noStrike">
                        <a:solidFill>
                          <a:srgbClr val="000000"/>
                        </a:solidFill>
                        <a:latin typeface="Calibri"/>
                      </a:rPr>
                      <a:t>(pl. javult képességek, új termékek, új márkapozícionálás) 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68" name="Csoportba foglalás 36"/>
                <p:cNvGrpSpPr/>
                <p:nvPr/>
              </p:nvGrpSpPr>
              <p:grpSpPr>
                <a:xfrm>
                  <a:off x="2116800" y="1764720"/>
                  <a:ext cx="6127200" cy="4084560"/>
                  <a:chOff x="2116800" y="1764720"/>
                  <a:chExt cx="6127200" cy="4084560"/>
                </a:xfrm>
              </p:grpSpPr>
              <p:sp>
                <p:nvSpPr>
                  <p:cNvPr id="269" name="Balra-jobbra nyíl 22"/>
                  <p:cNvSpPr/>
                  <p:nvPr/>
                </p:nvSpPr>
                <p:spPr>
                  <a:xfrm>
                    <a:off x="6317640" y="353736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0" name="Balra-jobbra nyíl 23"/>
                  <p:cNvSpPr/>
                  <p:nvPr/>
                </p:nvSpPr>
                <p:spPr>
                  <a:xfrm>
                    <a:off x="3234600" y="353736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1" name="Balra-jobbra nyíl 24"/>
                  <p:cNvSpPr/>
                  <p:nvPr/>
                </p:nvSpPr>
                <p:spPr>
                  <a:xfrm>
                    <a:off x="6048000" y="550260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2" name="Balra-jobbra nyíl 25"/>
                  <p:cNvSpPr/>
                  <p:nvPr/>
                </p:nvSpPr>
                <p:spPr>
                  <a:xfrm>
                    <a:off x="3658680" y="176472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3" name="Balra-jobbra nyíl 26"/>
                  <p:cNvSpPr/>
                  <p:nvPr/>
                </p:nvSpPr>
                <p:spPr>
                  <a:xfrm>
                    <a:off x="5970960" y="176472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4" name="Balra-jobbra nyíl 27"/>
                  <p:cNvSpPr/>
                  <p:nvPr/>
                </p:nvSpPr>
                <p:spPr>
                  <a:xfrm>
                    <a:off x="3658680" y="550260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5" name="Balra-jobbra nyíl 28"/>
                  <p:cNvSpPr/>
                  <p:nvPr/>
                </p:nvSpPr>
                <p:spPr>
                  <a:xfrm rot="5400000">
                    <a:off x="7723800" y="448128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6" name="Balra-jobbra nyíl 29"/>
                  <p:cNvSpPr/>
                  <p:nvPr/>
                </p:nvSpPr>
                <p:spPr>
                  <a:xfrm rot="5400000">
                    <a:off x="7723800" y="270828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7" name="Balra-jobbra nyíl 30"/>
                  <p:cNvSpPr/>
                  <p:nvPr/>
                </p:nvSpPr>
                <p:spPr>
                  <a:xfrm rot="5400000">
                    <a:off x="1943280" y="448128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8" name="Balra-jobbra nyíl 31"/>
                  <p:cNvSpPr/>
                  <p:nvPr/>
                </p:nvSpPr>
                <p:spPr>
                  <a:xfrm rot="5400000">
                    <a:off x="1943280" y="270828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79" name="Balra-jobbra nyíl 32"/>
                  <p:cNvSpPr/>
                  <p:nvPr/>
                </p:nvSpPr>
                <p:spPr>
                  <a:xfrm rot="2334000">
                    <a:off x="3382200" y="243864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0" name="Balra-jobbra nyíl 33"/>
                  <p:cNvSpPr/>
                  <p:nvPr/>
                </p:nvSpPr>
                <p:spPr>
                  <a:xfrm rot="2334000">
                    <a:off x="6240600" y="482796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1" name="Balra-jobbra nyíl 34"/>
                  <p:cNvSpPr/>
                  <p:nvPr/>
                </p:nvSpPr>
                <p:spPr>
                  <a:xfrm rot="18298800">
                    <a:off x="3465000" y="479700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2" name="Balra-jobbra nyíl 35"/>
                  <p:cNvSpPr/>
                  <p:nvPr/>
                </p:nvSpPr>
                <p:spPr>
                  <a:xfrm rot="18298800">
                    <a:off x="6202440" y="2408040"/>
                    <a:ext cx="693360" cy="346680"/>
                  </a:xfrm>
                  <a:prstGeom prst="leftRightArrow">
                    <a:avLst>
                      <a:gd name="adj1" fmla="val 50000"/>
                      <a:gd name="adj2" fmla="val 50000"/>
                    </a:avLst>
                  </a:prstGeom>
                  <a:solidFill>
                    <a:srgbClr val="63252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pic>
            <p:nvPicPr>
              <p:cNvPr id="283" name="Picture 3" descr="C:\Users\Rajmi\Desktop\stratmen\scan 5.jpg"/>
              <p:cNvPicPr/>
              <p:nvPr/>
            </p:nvPicPr>
            <p:blipFill>
              <a:blip r:embed="rId8"/>
              <a:srcRect l="37025" t="47781" r="36388" b="32412"/>
              <a:stretch/>
            </p:blipFill>
            <p:spPr>
              <a:xfrm>
                <a:off x="4429440" y="3739320"/>
                <a:ext cx="1464120" cy="847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4" name="Dia számának helye 39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A269-8DCC-46D5-9744-875BDAECD5E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Balra-jobbra nyíl 41"/>
          <p:cNvSpPr/>
          <p:nvPr/>
        </p:nvSpPr>
        <p:spPr>
          <a:xfrm rot="5400000">
            <a:off x="5010120" y="2477880"/>
            <a:ext cx="465120" cy="34776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63252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Balra-jobbra nyíl 44"/>
          <p:cNvSpPr/>
          <p:nvPr/>
        </p:nvSpPr>
        <p:spPr>
          <a:xfrm rot="5400000">
            <a:off x="5010840" y="4828320"/>
            <a:ext cx="463680" cy="347760"/>
          </a:xfrm>
          <a:prstGeom prst="leftRightArrow">
            <a:avLst>
              <a:gd name="adj1" fmla="val 50000"/>
              <a:gd name="adj2" fmla="val 49814"/>
            </a:avLst>
          </a:prstGeom>
          <a:solidFill>
            <a:srgbClr val="63252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gátl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lapfeltétel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par-integrá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Hatalmi struktú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Kockázattól való tar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pari előírás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Intézményi nyom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31E0-AF2D-4D68-B0C3-3EA3CCD447E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Az alkalmazkodás és kitűnés paradoxon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 kitűnés költséges és kockáza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Versenyszabályok és ipari struktúra elfogadása ugyanakkor áthágás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Cég nem rendelkezik befolyással → alkalmazkodá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Alkalmazkodás, vagy kiszelektálódá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Calibri"/>
              </a:rPr>
              <a:t>Cég képes formálni az ipari körülményeket → kitűnés (feltételek mozdítása előnyösebb felé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CA18-8795-450B-A0F0-2065BFEE0356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környezet perspektívá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258920" y="1600200"/>
          <a:ext cx="7427880" cy="3336840"/>
        </p:xfrm>
        <a:graphic>
          <a:graphicData uri="http://schemas.openxmlformats.org/drawingml/2006/table">
            <a:tbl>
              <a:tblPr/>
              <a:tblGrid>
                <a:gridCol w="2197080"/>
                <a:gridCol w="2628720"/>
                <a:gridCol w="260208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i dinamika perspektívá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i vezetés perspektívá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gsú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kalmazkodás választás fel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álasztás alkalmazkodás fele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i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álhatatlan fejlődési folya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ányított alkotási folyam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gújulás dinamiká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örnyezet választ alkalmas cége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cég alkalmas környezetet hoz lé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siker  kulc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i igényeinek való megfelel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ari igények  manipuláció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 ipar formálásának képessé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enge, lass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ős, gy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ányadó következtet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ályszerűség (alkalmazkodá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zabályok megváltoztatása (innováció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jlesztési irá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vergálás a domináns modell fel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verzifikáció, új irányzat létrehozá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ég jövedelmezősé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úlnyomóan befolyásolt az ipar ál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úlnyomóan cégfügg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Dia számának helye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A45A-91C7-4B6A-B783-970A5B9E004A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6858000"/>
          </a:xfrm>
          <a:prstGeom prst="rect">
            <a:avLst/>
          </a:prstGeom>
          <a:blipFill rotWithShape="0">
            <a:blip r:embed="rId1">
              <a:alphaModFix amt="16000"/>
            </a:blip>
            <a:stretch/>
          </a:blipFill>
          <a:ln w="0">
            <a:noFill/>
          </a:ln>
        </p:spPr>
        <p:txBody>
          <a:bodyPr bIns="648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F7D5-834A-4C69-94D8-84C87A5497C9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 IPARI KÖRNYE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58560" y="1143000"/>
            <a:ext cx="7427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 stratégiai környez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z ipari környez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pari fejlőd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ipari fejlődés ösvénye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ipari fejlődés mozgató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ipari fejlődés gátló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alkalmazkodás és kitűnés paradoxo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cég alkalmazkodásának ig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tratégiai kitűnés igény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ipari környezet perspektí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EFEEA-8AFE-42D7-A641-D1AC70C19429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 stratégiai környezet rész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Csoportba foglalás 11"/>
          <p:cNvGrpSpPr/>
          <p:nvPr/>
        </p:nvGrpSpPr>
        <p:grpSpPr>
          <a:xfrm>
            <a:off x="1325520" y="1844640"/>
            <a:ext cx="3738600" cy="3780000"/>
            <a:chOff x="1325520" y="1844640"/>
            <a:chExt cx="3738600" cy="3780000"/>
          </a:xfrm>
        </p:grpSpPr>
        <p:sp>
          <p:nvSpPr>
            <p:cNvPr id="187" name="Ellipszis 9"/>
            <p:cNvSpPr/>
            <p:nvPr/>
          </p:nvSpPr>
          <p:spPr>
            <a:xfrm>
              <a:off x="1325520" y="1844640"/>
              <a:ext cx="3738600" cy="3737160"/>
            </a:xfrm>
            <a:prstGeom prst="ellipse">
              <a:avLst/>
            </a:prstGeom>
            <a:solidFill>
              <a:srgbClr val="dce6f2"/>
            </a:solidFill>
            <a:ln w="9360">
              <a:solidFill>
                <a:srgbClr val="2540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13240" bIns="264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alibri"/>
                </a:rPr>
                <a:t>Nemzetközi</a:t>
              </a:r>
              <a:br>
                <a:rPr sz="1800"/>
              </a:br>
              <a:r>
                <a:rPr b="1" lang="hu-HU" sz="1800" spc="-1" strike="noStrike">
                  <a:solidFill>
                    <a:srgbClr val="000000"/>
                  </a:solidFill>
                  <a:latin typeface="Calibri"/>
                </a:rPr>
                <a:t>környez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Ellipszis 5"/>
            <p:cNvSpPr/>
            <p:nvPr/>
          </p:nvSpPr>
          <p:spPr>
            <a:xfrm>
              <a:off x="1756800" y="2729520"/>
              <a:ext cx="2876040" cy="2874960"/>
            </a:xfrm>
            <a:prstGeom prst="ellipse">
              <a:avLst/>
            </a:prstGeom>
            <a:solidFill>
              <a:srgbClr val="b9cde5"/>
            </a:solidFill>
            <a:ln w="9360">
              <a:solidFill>
                <a:srgbClr val="2540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630720" bIns="2033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alibri"/>
                </a:rPr>
                <a:t>Ipari</a:t>
              </a:r>
              <a:br>
                <a:rPr sz="1800"/>
              </a:br>
              <a:r>
                <a:rPr b="1" lang="hu-HU" sz="1800" spc="-1" strike="noStrike">
                  <a:solidFill>
                    <a:srgbClr val="000000"/>
                  </a:solidFill>
                  <a:latin typeface="Calibri"/>
                </a:rPr>
                <a:t>környez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Ellipszis 8"/>
            <p:cNvSpPr/>
            <p:nvPr/>
          </p:nvSpPr>
          <p:spPr>
            <a:xfrm>
              <a:off x="2140200" y="3516480"/>
              <a:ext cx="2108880" cy="2108160"/>
            </a:xfrm>
            <a:prstGeom prst="ellipse">
              <a:avLst/>
            </a:prstGeom>
            <a:solidFill>
              <a:srgbClr val="95b3d7"/>
            </a:solidFill>
            <a:ln w="9360">
              <a:solidFill>
                <a:srgbClr val="2540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164880" bIns="1491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000000"/>
                  </a:solidFill>
                  <a:latin typeface="Calibri"/>
                </a:rPr>
                <a:t>Szervezeti környeze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Ellipszis 7"/>
            <p:cNvSpPr/>
            <p:nvPr/>
          </p:nvSpPr>
          <p:spPr>
            <a:xfrm>
              <a:off x="2571480" y="4368960"/>
              <a:ext cx="1245960" cy="1245600"/>
            </a:xfrm>
            <a:prstGeom prst="ellipse">
              <a:avLst/>
            </a:prstGeom>
            <a:solidFill>
              <a:srgbClr val="558ed5"/>
            </a:solidFill>
            <a:ln w="9360">
              <a:solidFill>
                <a:srgbClr val="2540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400" spc="-1" strike="noStrike">
                  <a:solidFill>
                    <a:srgbClr val="000000"/>
                  </a:solidFill>
                  <a:latin typeface="Calibri"/>
                </a:rPr>
                <a:t>Menedzs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Szövegdoboz 13"/>
          <p:cNvSpPr/>
          <p:nvPr/>
        </p:nvSpPr>
        <p:spPr>
          <a:xfrm>
            <a:off x="5292720" y="1281240"/>
            <a:ext cx="3635280" cy="52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Calibri"/>
              </a:rPr>
              <a:t>Hogyan fejlődik a nemzetközi környezet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lkalmazkodás a végbemenő globális hasonuláshoz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Nemzetközi különbözőségek megtartás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Calibri"/>
              </a:rPr>
              <a:t>Hogyan játszódik le az ipari fejlődé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z önálló cég  tudja-e az ipart befolyásolni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z ipari  környezet milyen mértékben követeli meg az a cég sajátos viselkedéstípusait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700" spc="-1" strike="noStrike">
                <a:solidFill>
                  <a:srgbClr val="000000"/>
                </a:solidFill>
                <a:latin typeface="Calibri"/>
              </a:rPr>
              <a:t>Hogyan játszódik le a szervezeti fejlődés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 menedzserek tudják-e befolyásolni a saját szervezeti feltételeiket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 szervezeti környezet milyen mértékben határozza meg a cég sajátos viselkedéstípusát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gyenes összekötő 17"/>
          <p:cNvSpPr/>
          <p:nvPr/>
        </p:nvSpPr>
        <p:spPr>
          <a:xfrm flipV="1">
            <a:off x="3817800" y="1592280"/>
            <a:ext cx="147492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gyenes összekötő 18"/>
          <p:cNvSpPr/>
          <p:nvPr/>
        </p:nvSpPr>
        <p:spPr>
          <a:xfrm>
            <a:off x="3817800" y="3035160"/>
            <a:ext cx="14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gyenes összekötő 20"/>
          <p:cNvSpPr/>
          <p:nvPr/>
        </p:nvSpPr>
        <p:spPr>
          <a:xfrm>
            <a:off x="3817800" y="4113360"/>
            <a:ext cx="124632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Dia számának helye 22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A3D8-C557-4AB8-8F14-8CABD886482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környe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Az ipar szabályai annak struktúrájából fakadn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Szabálykövetés vagy szabályok változ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Fontos az ipari környezet megért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lyen irányba mozog az ip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Calibri"/>
              </a:rPr>
              <a:t>Milyen irányba engedik mozgatni az i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2D77-D40F-45EE-B111-D770AE4092E8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kimenete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0" name="Csoportba foglalás 19"/>
          <p:cNvGrpSpPr/>
          <p:nvPr/>
        </p:nvGrpSpPr>
        <p:grpSpPr>
          <a:xfrm>
            <a:off x="1692360" y="1449360"/>
            <a:ext cx="6912000" cy="4719600"/>
            <a:chOff x="1692360" y="1449360"/>
            <a:chExt cx="6912000" cy="4719600"/>
          </a:xfrm>
        </p:grpSpPr>
        <p:sp>
          <p:nvSpPr>
            <p:cNvPr id="201" name="Téglalap 17"/>
            <p:cNvSpPr/>
            <p:nvPr/>
          </p:nvSpPr>
          <p:spPr>
            <a:xfrm>
              <a:off x="1692360" y="1449360"/>
              <a:ext cx="6912000" cy="47196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2" name="Csoportba foglalás 15"/>
            <p:cNvGrpSpPr/>
            <p:nvPr/>
          </p:nvGrpSpPr>
          <p:grpSpPr>
            <a:xfrm>
              <a:off x="2066040" y="1449360"/>
              <a:ext cx="6307560" cy="4278240"/>
              <a:chOff x="2066040" y="1449360"/>
              <a:chExt cx="6307560" cy="4278240"/>
            </a:xfrm>
          </p:grpSpPr>
          <p:grpSp>
            <p:nvGrpSpPr>
              <p:cNvPr id="203" name="Csoportba foglalás 13"/>
              <p:cNvGrpSpPr/>
              <p:nvPr/>
            </p:nvGrpSpPr>
            <p:grpSpPr>
              <a:xfrm>
                <a:off x="2066040" y="1449360"/>
                <a:ext cx="6307560" cy="3976560"/>
                <a:chOff x="2066040" y="1449360"/>
                <a:chExt cx="6307560" cy="3976560"/>
              </a:xfrm>
            </p:grpSpPr>
            <p:sp>
              <p:nvSpPr>
                <p:cNvPr id="204" name="Szövegdoboz 6"/>
                <p:cNvSpPr/>
                <p:nvPr/>
              </p:nvSpPr>
              <p:spPr>
                <a:xfrm>
                  <a:off x="4442040" y="1449360"/>
                  <a:ext cx="164520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hu-H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Állapo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5" name="Szövegdoboz 7"/>
                <p:cNvSpPr/>
                <p:nvPr/>
              </p:nvSpPr>
              <p:spPr>
                <a:xfrm>
                  <a:off x="2066040" y="1449360"/>
                  <a:ext cx="164520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hu-H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Állandók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6" name="Szövegdoboz 8"/>
                <p:cNvSpPr/>
                <p:nvPr/>
              </p:nvSpPr>
              <p:spPr>
                <a:xfrm>
                  <a:off x="6454080" y="1449360"/>
                  <a:ext cx="1645200" cy="54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hu-HU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Irány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7" name="Jobbra nyíl 9"/>
                <p:cNvSpPr/>
                <p:nvPr/>
              </p:nvSpPr>
              <p:spPr>
                <a:xfrm>
                  <a:off x="6454080" y="2930400"/>
                  <a:ext cx="1919520" cy="1864800"/>
                </a:xfrm>
                <a:prstGeom prst="rightArrow">
                  <a:avLst>
                    <a:gd name="adj1" fmla="val 63380"/>
                    <a:gd name="adj2" fmla="val 28817"/>
                  </a:avLst>
                </a:prstGeom>
                <a:solidFill>
                  <a:srgbClr val="e6b9b8"/>
                </a:solidFill>
                <a:ln w="6480">
                  <a:solidFill>
                    <a:srgbClr val="d996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000000"/>
                      </a:solidFill>
                      <a:latin typeface="Calibri"/>
                    </a:rPr>
                    <a:t>Az ipari fejlődés ösvényei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Jobbra nyíl 10"/>
                <p:cNvSpPr/>
                <p:nvPr/>
              </p:nvSpPr>
              <p:spPr>
                <a:xfrm>
                  <a:off x="2066040" y="1997640"/>
                  <a:ext cx="1919520" cy="1864800"/>
                </a:xfrm>
                <a:prstGeom prst="rightArrow">
                  <a:avLst>
                    <a:gd name="adj1" fmla="val 63380"/>
                    <a:gd name="adj2" fmla="val 28817"/>
                  </a:avLst>
                </a:prstGeom>
                <a:solidFill>
                  <a:srgbClr val="e6b9b8"/>
                </a:solidFill>
                <a:ln w="6480">
                  <a:solidFill>
                    <a:srgbClr val="d996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000000"/>
                      </a:solidFill>
                      <a:latin typeface="Calibri"/>
                    </a:rPr>
                    <a:t>Az ipari fejlődés mozgatói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9" name="Téglalap 12"/>
                <p:cNvSpPr/>
                <p:nvPr/>
              </p:nvSpPr>
              <p:spPr>
                <a:xfrm>
                  <a:off x="4205160" y="2299320"/>
                  <a:ext cx="2084040" cy="3126600"/>
                </a:xfrm>
                <a:prstGeom prst="rect">
                  <a:avLst/>
                </a:prstGeom>
                <a:solidFill>
                  <a:srgbClr val="b9cde5"/>
                </a:solidFill>
                <a:ln w="6480">
                  <a:solidFill>
                    <a:srgbClr val="95b3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hu-HU" sz="2000" spc="-1" strike="noStrike">
                      <a:solidFill>
                        <a:srgbClr val="000000"/>
                      </a:solidFill>
                      <a:latin typeface="Calibri"/>
                    </a:rPr>
                    <a:t>Az ipari fejlődés dimenziói</a:t>
                  </a:r>
                  <a:endParaRPr b="0" lang="en-US" sz="2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0" name="Balra nyíl 14"/>
              <p:cNvSpPr/>
              <p:nvPr/>
            </p:nvSpPr>
            <p:spPr>
              <a:xfrm>
                <a:off x="2101320" y="3862800"/>
                <a:ext cx="1883880" cy="1864800"/>
              </a:xfrm>
              <a:prstGeom prst="leftArrow">
                <a:avLst>
                  <a:gd name="adj1" fmla="val 61713"/>
                  <a:gd name="adj2" fmla="val 27847"/>
                </a:avLst>
              </a:prstGeom>
              <a:solidFill>
                <a:srgbClr val="e6b9b8"/>
              </a:solidFill>
              <a:ln w="6480">
                <a:solidFill>
                  <a:srgbClr val="d996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000" spc="-1" strike="noStrike">
                    <a:solidFill>
                      <a:srgbClr val="000000"/>
                    </a:solidFill>
                    <a:latin typeface="Calibri"/>
                  </a:rPr>
                  <a:t>Az ipari fejlődés gátlói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1" name="Dia számának helye 1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BD6AD-1A12-4029-93D0-E3EF4964F1B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62CF-26AE-4F96-B166-682E1B0DF2D0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Konvergencia –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nvergencia: az ipari szereplők hasonlóságra való törekvése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biztosító- és légitársaság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Divergencia: fejlesztés a különbözőség növelése érdekében, új üzleti modellek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autókölcsönzők, vendéglátá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A4E8D-198C-49CF-856F-5E9293ED93C9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Koncent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Piaci részesedés nagyrészt néhány vállalatnál összpontosul (koncentrált piac) → még koncentráltabb piac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repülőgépipar,élelmiszerkereske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Piaci részesedések csökkennek → további csökkenés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telekommunikációs cégek, légitársaság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22A6-36A9-4E94-BF01-76EB6358382C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blipFill rotWithShape="0">
            <a:blip r:embed="rId1">
              <a:alphaModFix amt="0"/>
            </a:blip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Az ipari fejlődés dimenzió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58560" y="1600200"/>
            <a:ext cx="742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vergencia - Divergenc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Koncentráció -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700" spc="-1" strike="noStrike">
                <a:solidFill>
                  <a:srgbClr val="000000"/>
                </a:solidFill>
                <a:latin typeface="Calibri"/>
              </a:rPr>
              <a:t>Vertik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cégek érdekeltek értéknövelő tevékenységük növelésében → vertikális integráció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média IT szolgáltatások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Ellenkező esetben, ha a cégek inkább visszavonulnak →  vertikálisan töredezett struktú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Pl. telekommunikáció és járműip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Horizontális integráció  - 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Nemzetközi integráció – Fragmentáció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r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700" spc="-1" strike="noStrike">
                <a:solidFill>
                  <a:srgbClr val="000000"/>
                </a:solidFill>
                <a:latin typeface="Calibri"/>
              </a:rPr>
              <a:t>Terjeszkedés - Zsugorodá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Dia számának helye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9D4B-7531-48D1-825E-1CB294260A3B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6:35:29Z</dcterms:created>
  <dc:creator>Katona Rajmund</dc:creator>
  <dc:description/>
  <dc:language>en-US</dc:language>
  <cp:lastModifiedBy>Papp Ilona</cp:lastModifiedBy>
  <dcterms:modified xsi:type="dcterms:W3CDTF">2011-12-14T10:19:10Z</dcterms:modified>
  <cp:revision>111</cp:revision>
  <dc:subject/>
  <dc:title>1. dia</dc:title>
</cp:coreProperties>
</file>