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085-B534-4B23-96C0-A78F5C1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B18-41A5-41AD-9EFD-0F2DE3DA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AB1-C5BC-469E-BDD8-6F0C498B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0717-512A-4CB8-B50A-CB4B77B1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82B1-CE32-49E2-8752-DC221803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DD3-0656-463F-9244-82F61A75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678-35DF-48CF-962B-6F0078B2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0B8A-818B-44AF-B90A-44E1BB38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34A-4FF0-4A8A-8D32-B330D439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7A0-BDBC-49A6-A742-A34A6C84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A15-037A-4B20-9814-0F6352B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A12-A440-43C3-9099-6434CAFC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4733-0F81-4DFC-8124-511179173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d2f56"/>
                </a:solidFill>
                <a:latin typeface="Arial"/>
              </a:rPr>
              <a:t>Hálózati szintű stratég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692360" y="765000"/>
            <a:ext cx="68403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Erőforrások jobb kihasználásához igazított kapcsola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8560" y="2033280"/>
            <a:ext cx="7885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rőforrások megosztása révén a vállalatok növelni tudják azok mennyiségét és minőségé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rőforrások növelésére két lehetőség kínálkozik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Tanulá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cél az ismeretek kölcsönös átadása, vagy új know-how keresése, ill. a cégek új tanulási célokat is hozzáadhatnak a már létező kapcsolath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Kölcsönzé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cég speciális erőforrásokkal rendelkezik, de nem tudja egyedül kihasználni azokat erőforrásokat kölcsönözhetnek egymásnak (technológia, szerzői jogok, védjegyek, pszichikai erőforrás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tevékenységek egyesítését szolgáló kapcsola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8560" y="1889280"/>
            <a:ext cx="78850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cégek sokkal értékesebbé és hatékonyabbá válnak azáltal, hogy más vállalatokkal integrálják értékes folyamataik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tevékenységek integrálásának 2 módja ismert: az egyesítés és az együttműköd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Egyesíté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olyan kapcsolat, amelyben termékeket vagy szolgáltatásokat cserélnek, a kapcsolatok felfelé és lefelé áramló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Együttműködé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cégek együtt viszik alapvető tevékenységüket, pl. megosztott működés, értékesítési infrastruktúra, logisztikai rendszerek, fizetési feltétele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Pozíciók javítását szolgáló kapcsolat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956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piaci fellépés hatékonyabbá vál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pozíciónövelő kapcsolatok 2 típu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Támaszkodás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létrehozható, a szállítókkal szembeni alkupozíció növelése érdekében, ill. a vevőknek történő vonzóbb termék- vagy szolgáltatáscsomag ajánlása érdekében. Az együttműködést oka lehet a belépési korlát növelése és a többi vállalat helyzetének gyengítése 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971280" y="836280"/>
            <a:ext cx="7956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Lobbizás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társaságok célja a velük kapcsolatban álló felek helyzeténél erősebb pozíció elérése. Gyakran a politikai és szabályozó szereplőkkel szembeni befolyásukat szeretnék növelni. Az összefogás célja lehet a nyomás gyakorlása is: pl. minőségbiztosítási szervezetekre, egyetemekre, adóhatóságokra vagy tőzsdék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Kapcsolati tényező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legfontosabb a társaságok által elérni kívánt cé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továbbiakat 4 csoportra bonthatjuk: legitimáció, sürgősség, gyakoriság és hatal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Legitimáció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írott és íratlan szabályok, elvárt, hogy a másik fél betartsa őket. Idővel változha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Sürgőssé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kapcsolatot nagy mértékben befolyásolja az időtényez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914400" y="836280"/>
            <a:ext cx="805032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Gyakorisá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kisebb az elkötelezettség az egyszeri összefogásnál, mint akkor, ha hosszabb együttműködésre számítu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Hatalom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másik viselkedését mennyire tudjuk befolyásolni. Jelentős versenyelőnnyel rendelkezik az a vállalat, amely olyan erőforrások birtokosa, amire a másik szervezetnek szüksége v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403280" y="981000"/>
            <a:ext cx="75247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914400" y="836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Kölcsönös függetlensé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vállalatok csak saját szempontjaik alapján működnek együtt, egyik szervezet sem rendelkezik döntő befolyáss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Kiegyensúlyozatlan függetlensé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két vállalat laza kapcsolatban dolgozik együtt, az egyik cégnek nagyobb befolyása van, mint a másiknak. „A” cég nagyobb függetlenséggel bír, mint „B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914400" y="836280"/>
            <a:ext cx="82296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Kölcsönös függősé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két vállalat közötti szoros kapcsolat, egyenlő arányban rendelkeznek a másik feletti hatalomban. Más néven vállalatközi függőség. A piaci és a hierarchikus típusú viszonyok között találhat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Kiegyensúlyozatlan függőség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gyik fél domináns szerepet tölt be a másik felett. Ehhez hasonló eset, amikor egy cég felvásárolja versenytársá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45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hálózati szintű stratégia foga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4206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mikor kettő vagy több cég viszonya túlmutat egy pusztán kereskedelmi együttműködésen, és együtt dolgoznak egy közös cél elérésének érdekében, akkor ők egy szövetséget vagy hálózatot formál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Kapcsolati megállapodás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628640"/>
            <a:ext cx="79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2 cég közötti viszonyokat nem tekinthetjük hierarchikus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vállalatoknak sok esetben fel kell hagyniuk egyes tevékenységei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Sokszor hatékonyabb az inputok vásárlá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integráció szükséges, ha a piac kezének hatékonyságában és igazságosságában nem lehet megbíz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58560" y="836640"/>
            <a:ext cx="788508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9d2f56"/>
                </a:solidFill>
                <a:uFillTx/>
                <a:latin typeface="Arial"/>
              </a:rPr>
              <a:t>A hálózatoknál</a:t>
            </a:r>
            <a:r>
              <a:rPr b="0" i="1" lang="en-US" sz="2400" spc="-1" strike="noStrike">
                <a:solidFill>
                  <a:srgbClr val="9d2f56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koordinált stratégiák, rendezett tárgyalások, hatalmi törekvéstől mentes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hálózatok hibrid szervezeti formá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Igyekeznek a piac és a hierarchia nyújtotta előnyöket kombin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Nem piaci alapú megállapodásoknál: közös cél érdekében tevékenykednek, több, hosszú távú alapeszme segítségé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Piaci előnyök: flexibilitás és motiv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766764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187280" y="836640"/>
            <a:ext cx="79567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gyüttműködési megállapodások előnye: elősegíti a specializáció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munkamegosztás azt feltételezi, hogy az értéknövelő tevékenységekre a későbbiek során mások szakosod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Virtuális vállalatok: a köztük lévő kapcsolat szoros és tartós, magas szintű bizalomról és közös érdekekről beszélhetünk, minden vállalat megőrzi saját identitásá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hierarc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31640" y="162864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megállapodások különféle céljai gyakorta összekeveredhetnek mind a hierarchia előnyeivel, mind a piac értékeivel, de ugyanakkor ezek gyengeségeinek kombinációi is feltűnhet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hierarchia legfőbb gyengesége a bürok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Mereven szabályozzák a kapcsolatok szerkezetét, elfojtják a vállalkozó szellemet, a hatalom mérlege elbillenh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Opportunizmus = megalku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szervezetközi versenyzés igé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802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Versengés = a munkának azon cselekedetit, melyek a másik ellen irányulnak azokon a területen, ahol két vagy több szervezet közös célokkal rendelkezi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Versenyző magatartá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minden szervezetnek vállalni kell a konfrontációt. Az érdekek biztosítása miatt fontos, vagyis ki kell állni a vállalat érdekeié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Kirívóan ellentétes viselkedés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zokkal a vállalatokkal szemben, akik ugyanazt a piacot szolgálják 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258560" y="836280"/>
            <a:ext cx="788508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Erősen versenyző magatartásnál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beszállító és a vevő konfrontálódik a dominanciáért az iparági értéklánc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A verseny korlátozott formájánál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szervezetek céljai nem durván ellentétesek, de ezek öntudatos védelme fontos szerephez j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Feltételek: kellő erő, képesség, akarate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hatalom formálói: erőforrások szintjén jelentkező viszonylagos függőség mérté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Taktikai lépések: a kalkuláció, az alkudozás, a taktikázás, a koalíciókötés és a nyílt konflik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vállalatközi kooperáció igén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788508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Kooperáció: másokkal való közös munka, a szervezetek együttműködő viselkedést tanúsítan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különféle vállalatok céljai és/vagy érdekei gyakorta fedik egymást, ezért a közös munka kölcsönösen kifizetőd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Együttműködő magatartá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szervezet elkötelezte magát a képességei csapatmunkában történő kiaknázása mell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Együttműködő kapcsolat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lehet alkalmi szövetség, vagy a laza kapcsolat vagy virtuális integráci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7280" y="907560"/>
            <a:ext cx="795672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Erősen együttműködő viselkedé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 hosszú távú érdekek erőteljesen összefonód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Jelentősen együttműködő viselkedés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figyelhető meg  ott is, ahol a beszállítók és a vevők közös kihívással találkozna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Az együttműködés egy korlátozott formája: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egy kedvező ajánlatnál  néhányan még a többiek kárára akarják biztosítani saját visszavonulásuk lehetőségé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Vállalati perspektívá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403280" y="1341360"/>
          <a:ext cx="7416720" cy="5249880"/>
        </p:xfrm>
        <a:graphic>
          <a:graphicData uri="http://schemas.openxmlformats.org/drawingml/2006/table">
            <a:tbl>
              <a:tblPr/>
              <a:tblGrid>
                <a:gridCol w="2243160"/>
                <a:gridCol w="3014640"/>
                <a:gridCol w="215892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Diszkrét vállalati perspektí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Beágyazódott vállalati perspektí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Hangsúlyos viselkedési mó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Versenyzés az együttműködés helye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üttműködés a versenyzés helye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Preferált vállalati pozíció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Független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Vállalatközi függő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Környezeti struktúr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éni szervezetek /pontszerű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Beépült szervezetek /hálózatszer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Kapcsolat típusa más cégekkel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Pontosan meghatározott és vede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lmosódott és nyitot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Vállaltközi kapcsolatok típus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Karnyújtásnyi hosszú” és csak kereskedel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Zárt és strukturál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üttműködés eredmén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Lényegében nincs eredmén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/egyik nyer - másik veszít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Általában pozitív eredmé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/mindketten nyernek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üttműködés alapj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Taktikázás és hatalomszerz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Bizalom és kölcsönös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Hálózati szintű stratég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N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V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üttműködés eszkö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Ideiglenes koalíciók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/taktikai szövetségek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Tartós kapcsolat /stratégiai szövetség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Együttműködési megállapodás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Limitált, jól definiált szerződésen alapu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9d2f56"/>
                          </a:solidFill>
                          <a:latin typeface="Times New Roman"/>
                          <a:ea typeface="Times New Roman"/>
                        </a:rPr>
                        <a:t>Széleskörű, nyitott kapcsolaton alapul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Kulcskérdés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77708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Milyen módon keletkeznek ezek a stratégiá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Előnyös-e az együttműködést hosszú időn keresztül alkalmazni, vagy kedvezőbb, ha a cégek inkább piacorientált, kereskedelmi alapon működnek együt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Lehetséges-e egy cég számára több partneri viszonyt fenntartani, vagy előnyösebb, ha ez a kapcsolati háló minél egyszerűbb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A kapcsolatok tényező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560" y="162864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4 kérdőszó a jobb megértésh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KIK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azok a potenciális jelöltek, akikkel a cég kapcsolatot építhet k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MIÉRT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szeretnének egymással kapcsolatot létrehozni a cége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MILYEN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típusú hatások befolyásolják a leendő kapcsolat jellegé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d2f56"/>
                </a:solidFill>
                <a:latin typeface="Arial"/>
              </a:rPr>
              <a:t>HOGYAN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 tudunk egy kapcsolatot kiépíteni a szervezeti forma részeként úgy, hogy a tervezett módon működhess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0" t="5490" r="0" b="0"/>
          <a:stretch/>
        </p:blipFill>
        <p:spPr>
          <a:xfrm>
            <a:off x="1547640" y="2060640"/>
            <a:ext cx="741708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Négy kapcsolati tí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705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Vertikális kapcsolat (felfelé áramló, beszállítókkal folytato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Vertikális kapcsolat (lefelé mutató, vevőkkel folytatot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Közvetlen vízszintes irányú kapcsolat (iparágon belüli szereplőkkel, bennfentesekk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Közvetett vízszintes irányú kapcsolat (iparágon kívüli szereplőkkel, kívülállókkal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2450" t="0" r="0" b="0"/>
          <a:stretch/>
        </p:blipFill>
        <p:spPr>
          <a:xfrm>
            <a:off x="1763640" y="620640"/>
            <a:ext cx="66978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691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kooperációt megelőzően 2 eset lehetsé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vállalatok világos és kölcsönösen előnyös célokkal rendelkez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VA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gyik vagy mindkét vállalat gyengén meghatározott célokkal rendelkez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ÉS/VA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célok egymással összeférhetetlen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d2f56"/>
                </a:solidFill>
                <a:latin typeface="Arial"/>
              </a:rPr>
              <a:t>Kapcsolati cél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77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vállalatok együttműködését befolyásolja, hogy milyen célt szeretnének elér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lérendő cél lehet közös elképzelés, de előfordulhat, hogy a vállalatok szándékai egymást kizáró tényez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z együttműködésre való törekvés oka: a vállalatok hozzáadott értéket várnak tő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9d2f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d2f56"/>
                </a:solidFill>
                <a:latin typeface="Arial"/>
              </a:rPr>
              <a:t>A menedzserek feladata: az értékek forrásait megtalál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2:05:30Z</dcterms:created>
  <dc:creator>Zsuzsa</dc:creator>
  <dc:description/>
  <dc:language>en-US</dc:language>
  <cp:lastModifiedBy>Papp Ilona</cp:lastModifiedBy>
  <dcterms:modified xsi:type="dcterms:W3CDTF">2009-11-14T05:51:20Z</dcterms:modified>
  <cp:revision>62</cp:revision>
  <dc:subject/>
  <dc:title>1. dia</dc:title>
</cp:coreProperties>
</file>