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0ABE2-32EA-4D6F-8890-1C50E3B93DE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00448-B047-4723-88D1-1EA8D8979F2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932D1-936B-4FE0-9B78-91B8699C562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46EBA-31A2-4688-A2D6-104E810AD26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6D0BF-44A8-4A30-B137-5F72A51B5EC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D196-E1A5-471C-89D9-4DDB0866777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746DB-6D0D-4D6C-BD1A-B99DF3F45AD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16F36-331C-488D-82A8-79A6A89F9BA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5236C-E3B8-47F5-B99A-86017C95B20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36128-E59F-4C1C-A25B-B84B6C64C66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30D1A-A395-440C-9201-CC91D97C406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4AD47-A313-4A3F-BE81-8456B4C31147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A6081-1962-40A0-BC2C-F34656A4784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96230-A89C-4566-A9E0-488E1C88C4A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1E347-86C7-484B-814B-908B7F6EB4C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300A0-8106-4078-BE64-D88876A182D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E2C66-ADD4-4608-9CF2-B4C40E99A5C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6F5D-AF2C-4F1B-AF85-67E0DFF8BD7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60B99-5FB4-412F-97DA-B784DF77992F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293A6-3624-4142-BABF-AF19CE057E4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01C10-661D-4999-B2DA-31950EED1F35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ia számának helye 3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51D4A-CF7C-40E7-91A9-3C3A3C986FF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876-2F0B-4079-8723-8C340F37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F51-0CAD-4054-AA75-FFA5283A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B00-5EC8-4150-811C-EF790D7A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876-E591-4002-AD27-A99F1224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BED-7DC2-4A51-995A-D1AB6FF3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95A-ADCF-40FD-95DF-AF8568B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74B-0312-4D91-B1A2-79E4EB96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421-6E20-42F8-94A2-18CC381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BFC-DDC2-4514-BA1A-64DD8462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69F-EBA2-43CE-B1C0-CE41EC52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330-6F94-403C-831F-21AB8D7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1B1-670F-4C61-87A5-B59CB580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49F83A-465F-4154-8489-19E3850215E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zövegdoboz 1"/>
          <p:cNvSpPr/>
          <p:nvPr/>
        </p:nvSpPr>
        <p:spPr>
          <a:xfrm>
            <a:off x="1182600" y="3208320"/>
            <a:ext cx="80726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5400" spc="-1" strike="noStrike">
                <a:solidFill>
                  <a:srgbClr val="008000"/>
                </a:solidFill>
                <a:latin typeface="Arial"/>
              </a:rPr>
              <a:t>Fúziós energiatermelé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3600" spc="-1" strike="noStrike" u="sng">
                <a:solidFill>
                  <a:srgbClr val="c00000"/>
                </a:solidFill>
                <a:uFillTx/>
                <a:latin typeface="Arial"/>
              </a:rPr>
              <a:t>Berta Miklós</a:t>
            </a:r>
            <a:r>
              <a:rPr b="0" lang="hu-HU" sz="3600" spc="-1" strike="noStrike">
                <a:solidFill>
                  <a:srgbClr val="c00000"/>
                </a:solidFill>
                <a:latin typeface="Arial"/>
              </a:rPr>
              <a:t>, Horváth Andr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Fizika és Kémia Tansz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Széchenyi István Egye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Kép 2" descr="sze_logo.png"/>
          <p:cNvPicPr/>
          <p:nvPr/>
        </p:nvPicPr>
        <p:blipFill>
          <a:blip r:embed="rId1"/>
          <a:stretch/>
        </p:blipFill>
        <p:spPr>
          <a:xfrm>
            <a:off x="182520" y="208080"/>
            <a:ext cx="202896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Kép 3" descr="fizkem_logo.png"/>
          <p:cNvPicPr/>
          <p:nvPr/>
        </p:nvPicPr>
        <p:blipFill>
          <a:blip r:embed="rId2"/>
          <a:stretch/>
        </p:blipFill>
        <p:spPr>
          <a:xfrm>
            <a:off x="7875720" y="208080"/>
            <a:ext cx="201744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Kép 4" descr="logo.jpg"/>
          <p:cNvPicPr/>
          <p:nvPr/>
        </p:nvPicPr>
        <p:blipFill>
          <a:blip r:embed="rId3"/>
          <a:stretch/>
        </p:blipFill>
        <p:spPr>
          <a:xfrm>
            <a:off x="2897280" y="351000"/>
            <a:ext cx="4286160" cy="2244600"/>
          </a:xfrm>
          <a:prstGeom prst="rect">
            <a:avLst/>
          </a:prstGeom>
          <a:ln w="0">
            <a:noFill/>
          </a:ln>
        </p:spPr>
      </p:pic>
      <p:sp>
        <p:nvSpPr>
          <p:cNvPr id="52" name="Dátum helye 5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Élőláb helye 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182600" y="422280"/>
            <a:ext cx="7715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Néhány lehetséges fúziós folya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19040" y="1660680"/>
            <a:ext cx="2460600" cy="284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979640" y="4251240"/>
            <a:ext cx="3519360" cy="3129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5580000" y="1079640"/>
            <a:ext cx="4324320" cy="6119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160720" y="2519280"/>
            <a:ext cx="16192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Deutérium-trícium fú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39640" y="5940360"/>
            <a:ext cx="1619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CNO-cik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020000" y="900000"/>
            <a:ext cx="16192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Proton-proton fú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átum helye 8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Élőláb helye 10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zövegdoboz 1"/>
          <p:cNvSpPr/>
          <p:nvPr/>
        </p:nvSpPr>
        <p:spPr>
          <a:xfrm>
            <a:off x="254160" y="1351080"/>
            <a:ext cx="40003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  <a:ea typeface="Arial"/>
              </a:rPr>
              <a:t>Fúzió a N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Bonyolult ciklusokon keresztül vezet oda, hogy a Nap hidrogénkészlete fokozatosan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héliummá alakul. A folyamat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cc3300"/>
                </a:solidFill>
                <a:latin typeface="Arial"/>
                <a:ea typeface="Arial"/>
              </a:rPr>
              <a:t>15 millió f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on játszódik le</a:t>
            </a:r>
            <a:r>
              <a:rPr b="0" lang="hu-HU" sz="1800" spc="-1" strike="noStrike">
                <a:solidFill>
                  <a:srgbClr val="0066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Tisztán csak a hőmérsékletből származó sebesség nem lenne elég az atommagok egymáshoz ütközéséhez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  <a:ea typeface="Arial"/>
              </a:rPr>
              <a:t>A Napban uralkodó hatalmas gravitációs nyomás segíti a fúziós folyamatokat!</a:t>
            </a:r>
            <a:r>
              <a:rPr b="0" lang="hu-H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Földön ilyen hatalmas nyomásra nem számíthatunk!</a:t>
            </a:r>
            <a:r>
              <a:rPr b="0" lang="hu-HU" sz="1800" spc="-1" strike="noStrike">
                <a:solidFill>
                  <a:srgbClr val="cc3300"/>
                </a:solidFill>
                <a:latin typeface="Arial"/>
                <a:ea typeface="Arial"/>
              </a:rPr>
              <a:t> → Sokkal magasabb hőmérsékletre van szükség a Földö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un_Flares.avi" descr=""/>
          <p:cNvPicPr/>
          <p:nvPr/>
        </p:nvPicPr>
        <p:blipFill>
          <a:blip r:embed="rId1"/>
          <a:stretch/>
        </p:blipFill>
        <p:spPr>
          <a:xfrm>
            <a:off x="4754520" y="127944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117" name="Dátum helye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Élőláb helye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églalap 5"/>
          <p:cNvSpPr/>
          <p:nvPr/>
        </p:nvSpPr>
        <p:spPr>
          <a:xfrm>
            <a:off x="254160" y="1636560"/>
            <a:ext cx="928656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D 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+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 T 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  →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3600" spc="-1" strike="noStrike" baseline="33000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He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(3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5 MeV)  + n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(1</a:t>
            </a:r>
            <a:r>
              <a:rPr b="1" lang="hu-HU" sz="3600" spc="-1" strike="noStrike">
                <a:solidFill>
                  <a:srgbClr val="008000"/>
                </a:solidFill>
                <a:latin typeface="Arial"/>
              </a:rPr>
              <a:t>4,1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e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egy 75 millió fokos termikus közegben „nagy” valószínűséggel (</a:t>
            </a: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alagúteffektu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k köszönhetően) lezajli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Az összes többi lehetséges fúziós reakcióhoz sokkal magasabb hőmérséklet kelle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6"/>
          <p:cNvSpPr/>
          <p:nvPr/>
        </p:nvSpPr>
        <p:spPr>
          <a:xfrm>
            <a:off x="396720" y="493560"/>
            <a:ext cx="91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Erőművi fúziós folya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468360" y="5351400"/>
            <a:ext cx="92152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nyag atomjai ilyen hőmérsékleteken teljesen szét-esnek </a:t>
            </a: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atommag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a és </a:t>
            </a:r>
            <a:r>
              <a:rPr b="0" lang="hu-HU" sz="2800" spc="-1" strike="noStrike">
                <a:solidFill>
                  <a:srgbClr val="008000"/>
                </a:solidFill>
                <a:latin typeface="Arial"/>
              </a:rPr>
              <a:t>elektron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a. Ez az anyag ne-gyedik halmazállapota, a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c00000"/>
                </a:solidFill>
                <a:latin typeface="Arial"/>
              </a:rPr>
              <a:t>PLAZMA</a:t>
            </a:r>
            <a:r>
              <a:rPr b="0" lang="hu-HU" sz="4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átum helye 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25440" y="422280"/>
            <a:ext cx="9358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 fúziós folyamat energiamér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879640" y="5052960"/>
            <a:ext cx="2824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9640" y="1800360"/>
            <a:ext cx="7920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20720" y="3376440"/>
            <a:ext cx="83250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5"/>
          <p:cNvSpPr/>
          <p:nvPr/>
        </p:nvSpPr>
        <p:spPr>
          <a:xfrm>
            <a:off x="468360" y="1065240"/>
            <a:ext cx="935820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önfenntartó fúziós energiatermelés feltét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megtermelt energia   =   energiaveszte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8" descr=""/>
          <p:cNvPicPr/>
          <p:nvPr/>
        </p:nvPicPr>
        <p:blipFill>
          <a:blip r:embed="rId1"/>
          <a:stretch/>
        </p:blipFill>
        <p:spPr>
          <a:xfrm>
            <a:off x="1968480" y="2708280"/>
            <a:ext cx="5856480" cy="40114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7"/>
          <p:cNvSpPr/>
          <p:nvPr/>
        </p:nvSpPr>
        <p:spPr>
          <a:xfrm>
            <a:off x="468360" y="2136600"/>
            <a:ext cx="92152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3200" spc="-1" strike="noStrike">
                <a:solidFill>
                  <a:srgbClr val="c00000"/>
                </a:solidFill>
                <a:latin typeface="Arial"/>
              </a:rPr>
              <a:t>Lawson     </a:t>
            </a:r>
            <a:r>
              <a:rPr b="0" lang="hu-HU" sz="3200" spc="-1" strike="noStrike">
                <a:solidFill>
                  <a:srgbClr val="008000"/>
                </a:solidFill>
                <a:latin typeface="Arial"/>
              </a:rPr>
              <a:t>n </a:t>
            </a:r>
            <a:r>
              <a:rPr b="0" lang="el-GR" sz="3200" spc="-1" strike="noStrike">
                <a:solidFill>
                  <a:srgbClr val="008000"/>
                </a:solidFill>
                <a:latin typeface="Arial"/>
              </a:rPr>
              <a:t>τ</a:t>
            </a:r>
            <a:r>
              <a:rPr b="0" lang="hu-HU" sz="3200" spc="-1" strike="noStrike">
                <a:solidFill>
                  <a:srgbClr val="008000"/>
                </a:solidFill>
                <a:latin typeface="Arial"/>
              </a:rPr>
              <a:t>  ≥  C(T) ~ 10^(20)</a:t>
            </a:r>
            <a:r>
              <a:rPr b="0" lang="hu-HU" sz="3200" spc="-1" strike="noStrike">
                <a:solidFill>
                  <a:srgbClr val="c00000"/>
                </a:solidFill>
                <a:latin typeface="Arial"/>
              </a:rPr>
              <a:t>     D+T eset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8"/>
          <p:cNvSpPr/>
          <p:nvPr/>
        </p:nvSpPr>
        <p:spPr>
          <a:xfrm>
            <a:off x="611280" y="6566040"/>
            <a:ext cx="9001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abil égés! A folyamat nem szaladhat meg!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Biztonsá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átum helye 9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Élőláb helye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1"/>
          <p:cNvSpPr/>
          <p:nvPr/>
        </p:nvSpPr>
        <p:spPr>
          <a:xfrm>
            <a:off x="325440" y="351000"/>
            <a:ext cx="9286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Inerciális (lézeres) fú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2"/>
          <p:cNvSpPr/>
          <p:nvPr/>
        </p:nvSpPr>
        <p:spPr>
          <a:xfrm>
            <a:off x="611280" y="1279440"/>
            <a:ext cx="38574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Nagy sűrűség, rövid össze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lezer_fuzio.avi" descr=""/>
          <p:cNvPicPr/>
          <p:nvPr/>
        </p:nvPicPr>
        <p:blipFill>
          <a:blip r:embed="rId1"/>
          <a:stretch/>
        </p:blipFill>
        <p:spPr>
          <a:xfrm>
            <a:off x="396720" y="1851120"/>
            <a:ext cx="4353120" cy="407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3" descr=""/>
          <p:cNvPicPr/>
          <p:nvPr/>
        </p:nvPicPr>
        <p:blipFill>
          <a:blip r:embed="rId2"/>
          <a:stretch/>
        </p:blipFill>
        <p:spPr>
          <a:xfrm>
            <a:off x="5468760" y="1851120"/>
            <a:ext cx="4046760" cy="4071960"/>
          </a:xfrm>
          <a:prstGeom prst="rect">
            <a:avLst/>
          </a:prstGeom>
          <a:ln w="0">
            <a:noFill/>
          </a:ln>
        </p:spPr>
      </p:pic>
      <p:sp>
        <p:nvSpPr>
          <p:cNvPr id="138" name="Szövegdoboz 5"/>
          <p:cNvSpPr/>
          <p:nvPr/>
        </p:nvSpPr>
        <p:spPr>
          <a:xfrm>
            <a:off x="6254640" y="993600"/>
            <a:ext cx="25005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3200" spc="-1" strike="noStrike">
                <a:solidFill>
                  <a:srgbClr val="008000"/>
                </a:solidFill>
                <a:latin typeface="Arial"/>
              </a:rPr>
              <a:t>NIF /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6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9"/>
          <p:cNvSpPr/>
          <p:nvPr/>
        </p:nvSpPr>
        <p:spPr>
          <a:xfrm>
            <a:off x="5468760" y="6208560"/>
            <a:ext cx="4071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192 lézernyaláb, 2 millió Joule energia 1 ns ala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1"/>
          <p:cNvSpPr/>
          <p:nvPr/>
        </p:nvSpPr>
        <p:spPr>
          <a:xfrm>
            <a:off x="325440" y="279360"/>
            <a:ext cx="9358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Mágneses össze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2"/>
          <p:cNvSpPr/>
          <p:nvPr/>
        </p:nvSpPr>
        <p:spPr>
          <a:xfrm>
            <a:off x="1111320" y="922320"/>
            <a:ext cx="464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Kis sűrűség hosszan összetartv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magnes.avi" descr=""/>
          <p:cNvPicPr/>
          <p:nvPr/>
        </p:nvPicPr>
        <p:blipFill>
          <a:blip r:embed="rId1"/>
          <a:stretch/>
        </p:blipFill>
        <p:spPr>
          <a:xfrm>
            <a:off x="468360" y="1636560"/>
            <a:ext cx="5562720" cy="5000760"/>
          </a:xfrm>
          <a:prstGeom prst="rect">
            <a:avLst/>
          </a:prstGeom>
          <a:ln w="0">
            <a:noFill/>
          </a:ln>
        </p:spPr>
      </p:pic>
      <p:sp>
        <p:nvSpPr>
          <p:cNvPr id="145" name="Szövegdoboz 4"/>
          <p:cNvSpPr/>
          <p:nvPr/>
        </p:nvSpPr>
        <p:spPr>
          <a:xfrm>
            <a:off x="6254640" y="1636560"/>
            <a:ext cx="35719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intkezés az edény faláv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Lehűti a plazmá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6"/>
          <p:cNvSpPr/>
          <p:nvPr/>
        </p:nvSpPr>
        <p:spPr>
          <a:xfrm>
            <a:off x="6183360" y="2708280"/>
            <a:ext cx="371484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mogén mágneses térben való lebegteté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öltött részecskék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spir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ályán követik a mágneses te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lazma nem érintkezik  az edény faláv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észecskék kiszöknek a „végeken”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Zárjuk egymásba a két „véget”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TÓRUSZ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átum helye 7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Élőláb helye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zövegdoboz 1"/>
          <p:cNvSpPr/>
          <p:nvPr/>
        </p:nvSpPr>
        <p:spPr>
          <a:xfrm>
            <a:off x="254160" y="279360"/>
            <a:ext cx="9429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TOKAM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tokamak_2.avi" descr=""/>
          <p:cNvPicPr/>
          <p:nvPr/>
        </p:nvPicPr>
        <p:blipFill>
          <a:blip r:embed="rId1"/>
          <a:stretch/>
        </p:blipFill>
        <p:spPr>
          <a:xfrm>
            <a:off x="4183200" y="1351080"/>
            <a:ext cx="5628960" cy="5325840"/>
          </a:xfrm>
          <a:prstGeom prst="rect">
            <a:avLst/>
          </a:prstGeom>
          <a:ln w="0">
            <a:noFill/>
          </a:ln>
        </p:spPr>
      </p:pic>
      <p:sp>
        <p:nvSpPr>
          <p:cNvPr id="151" name="Szövegdoboz 3"/>
          <p:cNvSpPr/>
          <p:nvPr/>
        </p:nvSpPr>
        <p:spPr>
          <a:xfrm>
            <a:off x="254160" y="1279440"/>
            <a:ext cx="36115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 tóruszban a mágneses tér </a:t>
            </a: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nem homogén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→ részecskék </a:t>
            </a: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szétválása töltésük szerint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rtikális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elektromos tér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 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 x B sebesség sugárirányú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plazma a fal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4"/>
          <p:cNvSpPr/>
          <p:nvPr/>
        </p:nvSpPr>
        <p:spPr>
          <a:xfrm>
            <a:off x="254160" y="3279600"/>
            <a:ext cx="36432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Indukáljunk áramot a plazmában! →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lazmaáram mágneses tere megkeveri a plazmát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→ megszűnik a részecskék szétválása. →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a plazma nem kenődik a fal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5"/>
          <p:cNvSpPr/>
          <p:nvPr/>
        </p:nvSpPr>
        <p:spPr>
          <a:xfrm>
            <a:off x="254160" y="5351400"/>
            <a:ext cx="364320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lazma áramlása a TOKAMAK-ban 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turbulens 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nehéz növelni az összetartási idő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átum helye 6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zövegdoboz 1"/>
          <p:cNvSpPr/>
          <p:nvPr/>
        </p:nvSpPr>
        <p:spPr>
          <a:xfrm>
            <a:off x="396720" y="208080"/>
            <a:ext cx="9286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Trícium szapor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zövegdoboz 2"/>
          <p:cNvSpPr/>
          <p:nvPr/>
        </p:nvSpPr>
        <p:spPr>
          <a:xfrm>
            <a:off x="254160" y="1065240"/>
            <a:ext cx="95724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rícium gáznemű radioaktív anyag! Felezési ideje 12,9 év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A tríciumot elő kell állítani a fúziós erőmű számá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églalap 3"/>
          <p:cNvSpPr/>
          <p:nvPr/>
        </p:nvSpPr>
        <p:spPr>
          <a:xfrm>
            <a:off x="325440" y="2494080"/>
            <a:ext cx="4572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Li + n </a:t>
            </a: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  →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GB" sz="3600" spc="-1" strike="noStrike" baseline="33000">
                <a:solidFill>
                  <a:srgbClr val="008000"/>
                </a:solidFill>
                <a:latin typeface="Arial"/>
              </a:rPr>
              <a:t>4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He  + 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li_szaporit.avi" descr=""/>
          <p:cNvPicPr/>
          <p:nvPr/>
        </p:nvPicPr>
        <p:blipFill>
          <a:blip r:embed="rId1"/>
          <a:stretch/>
        </p:blipFill>
        <p:spPr>
          <a:xfrm>
            <a:off x="5111640" y="2208240"/>
            <a:ext cx="4619880" cy="4416480"/>
          </a:xfrm>
          <a:prstGeom prst="rect">
            <a:avLst/>
          </a:prstGeom>
          <a:ln w="0">
            <a:noFill/>
          </a:ln>
        </p:spPr>
      </p:pic>
      <p:sp>
        <p:nvSpPr>
          <p:cNvPr id="160" name="Szövegdoboz 5"/>
          <p:cNvSpPr/>
          <p:nvPr/>
        </p:nvSpPr>
        <p:spPr>
          <a:xfrm>
            <a:off x="325440" y="3637080"/>
            <a:ext cx="47862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ítium nagy mennyiségben fordul elő a földkéregben. Viszonylag olcsón kivonható onn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ítium szaporításához szükséges neutronokat  vehetjük a fúziós reakcióból. →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Li szaporító köpeny a reaktor rész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átum helye 6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1"/>
          <p:cNvSpPr/>
          <p:nvPr/>
        </p:nvSpPr>
        <p:spPr>
          <a:xfrm>
            <a:off x="254160" y="208080"/>
            <a:ext cx="95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Fúziós reaktor koncepci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fuzios_reaktor.avi" descr=""/>
          <p:cNvPicPr/>
          <p:nvPr/>
        </p:nvPicPr>
        <p:blipFill>
          <a:blip r:embed="rId1"/>
          <a:stretch/>
        </p:blipFill>
        <p:spPr>
          <a:xfrm>
            <a:off x="1897200" y="779400"/>
            <a:ext cx="6643440" cy="6013440"/>
          </a:xfrm>
          <a:prstGeom prst="rect">
            <a:avLst/>
          </a:prstGeom>
          <a:ln w="0">
            <a:noFill/>
          </a:ln>
        </p:spPr>
      </p:pic>
      <p:sp>
        <p:nvSpPr>
          <p:cNvPr id="165" name="Dátum helye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Élőláb helye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0" descr=""/>
          <p:cNvPicPr/>
          <p:nvPr/>
        </p:nvPicPr>
        <p:blipFill>
          <a:blip r:embed="rId1"/>
          <a:stretch/>
        </p:blipFill>
        <p:spPr>
          <a:xfrm>
            <a:off x="3683160" y="708120"/>
            <a:ext cx="6132240" cy="6134040"/>
          </a:xfrm>
          <a:prstGeom prst="rect">
            <a:avLst/>
          </a:prstGeom>
          <a:ln w="0">
            <a:noFill/>
          </a:ln>
        </p:spPr>
      </p:pic>
      <p:sp>
        <p:nvSpPr>
          <p:cNvPr id="168" name="Szövegdoboz 2"/>
          <p:cNvSpPr/>
          <p:nvPr/>
        </p:nvSpPr>
        <p:spPr>
          <a:xfrm>
            <a:off x="4611600" y="208080"/>
            <a:ext cx="4286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800" spc="-1" strike="noStrike">
                <a:solidFill>
                  <a:srgbClr val="c00000"/>
                </a:solidFill>
                <a:latin typeface="Arial"/>
              </a:rPr>
              <a:t>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3"/>
          <p:cNvSpPr/>
          <p:nvPr/>
        </p:nvSpPr>
        <p:spPr>
          <a:xfrm>
            <a:off x="182520" y="636480"/>
            <a:ext cx="2968560" cy="62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Önfenntartó fúziós energia-termelé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ísérleti reaktor – a megtermelt energia nem kerül a hálózatr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Szupravezet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ágnese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4 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kos hőmérséklet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Plazm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őmérsékle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70 – 80 millió f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ecsült EU hozzájárulá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~ 20 milliárd € / 10 é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dítás tervezett é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zetközi együttműködé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EU, Japán, Kína, India, Dél – Korea, USA, Oroszorszá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átum helye 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Élőláb helye 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60360" y="900000"/>
            <a:ext cx="9394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 nukleáris energiatermelés alapj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539640" y="1440000"/>
            <a:ext cx="864072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Energiamegmaradás törvénye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Bármilyen gép, mely energiát ad le, valaminek csökkenti az energiájá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vízerőmű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     a lezúduló víznek lesz kisebb az energi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élerőmű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   a szél egy kicsit las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zén- és olaj erőműve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kémiai kötések alakulnak ki, a végtermék  alacso-nyabb energiáj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25440" y="4565520"/>
            <a:ext cx="8999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ergiatermelés atommagokk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8000"/>
                </a:solidFill>
                <a:latin typeface="Arial"/>
              </a:rPr>
              <a:t>Alacsonyabb energiájú állapotba kell hozni az atommagokat!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25480" y="4851360"/>
            <a:ext cx="891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átum helye 5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Élőláb helye 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zövegdoboz 1"/>
          <p:cNvSpPr/>
          <p:nvPr/>
        </p:nvSpPr>
        <p:spPr>
          <a:xfrm>
            <a:off x="254160" y="208080"/>
            <a:ext cx="950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Fúziós energiatermelő reaktor előny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zövegdoboz 2"/>
          <p:cNvSpPr/>
          <p:nvPr/>
        </p:nvSpPr>
        <p:spPr>
          <a:xfrm>
            <a:off x="325440" y="1351080"/>
            <a:ext cx="935820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412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c00000"/>
                </a:solidFill>
                <a:uFillTx/>
                <a:latin typeface="Arial"/>
              </a:rPr>
              <a:t>Napi anyagszükséglet 1 GW-os erőmű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12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1GW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nap/17 MeV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3600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24/(1.7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.6 10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8×1.6 10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GB" sz="2800" spc="-1" strike="noStrike">
                <a:solidFill>
                  <a:srgbClr val="c00000"/>
                </a:solidFill>
                <a:latin typeface="Arial"/>
              </a:rPr>
              <a:t>0.4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zövegdoboz 3"/>
          <p:cNvSpPr/>
          <p:nvPr/>
        </p:nvSpPr>
        <p:spPr>
          <a:xfrm>
            <a:off x="468360" y="851040"/>
            <a:ext cx="4786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Kevés bemenő üzemanyag szüksé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zövegdoboz 4"/>
          <p:cNvSpPr/>
          <p:nvPr/>
        </p:nvSpPr>
        <p:spPr>
          <a:xfrm>
            <a:off x="468360" y="2351160"/>
            <a:ext cx="8072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A bemenő üzemanyag (D, Li) és a végtermék (He) nem radioaktív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zövegdoboz 5"/>
          <p:cNvSpPr/>
          <p:nvPr/>
        </p:nvSpPr>
        <p:spPr>
          <a:xfrm>
            <a:off x="396720" y="2851200"/>
            <a:ext cx="93585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bülső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trícium viszont radioaktív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igen illékony! A keletkezett neutronok felaktiválják a szerkezeti elemeket! →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A fúziós energia melléktermékeként </a:t>
            </a:r>
            <a:r>
              <a:rPr b="0" lang="hu-HU" sz="1800" spc="-1" strike="noStrike" u="sng">
                <a:solidFill>
                  <a:srgbClr val="c00000"/>
                </a:solidFill>
                <a:uFillTx/>
                <a:latin typeface="Arial"/>
              </a:rPr>
              <a:t>keletkezik radioaktivitás!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Igaz viszonylag rövid felezési idejű izotópok formájáb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zövegdoboz 6"/>
          <p:cNvSpPr/>
          <p:nvPr/>
        </p:nvSpPr>
        <p:spPr>
          <a:xfrm>
            <a:off x="468360" y="3994200"/>
            <a:ext cx="92152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Nem termel üvegházhatású gázoka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A bemenő üzemanyag „mindenütt” megtalálható szinte „korlátlan” mennyiség-b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8000"/>
                </a:solidFill>
                <a:latin typeface="Arial"/>
              </a:rPr>
              <a:t>A fúziós reaktor azonnal leáll a legkisebb, üzemi állapottól való eltérésk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átum helye 7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Élőláb helye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zövegdoboz 1"/>
          <p:cNvSpPr/>
          <p:nvPr/>
        </p:nvSpPr>
        <p:spPr>
          <a:xfrm>
            <a:off x="325440" y="779400"/>
            <a:ext cx="95011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Az ITER sikere azon múlik, h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ikerül – e megoldani még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néhány alapvető fontosságú fizikai problémá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sz – e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elegendő műszaki végzettségű emb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ki ezen a projekten akar dolgoz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zövegdoboz 2"/>
          <p:cNvSpPr/>
          <p:nvPr/>
        </p:nvSpPr>
        <p:spPr>
          <a:xfrm>
            <a:off x="325440" y="2565360"/>
            <a:ext cx="9501120" cy="6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következő mintegy 25 évben fizikusok százaira, és mérnökök ezrei lesz szükség a fúziós energetikában! → </a:t>
            </a: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Magas szintű természettudományos és műszaki képzé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zövegdoboz 3"/>
          <p:cNvSpPr/>
          <p:nvPr/>
        </p:nvSpPr>
        <p:spPr>
          <a:xfrm>
            <a:off x="3683160" y="4351320"/>
            <a:ext cx="5429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3600" spc="-1" strike="noStrike">
                <a:solidFill>
                  <a:srgbClr val="008000"/>
                </a:solidFill>
                <a:latin typeface="Arial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2560" y="3851280"/>
            <a:ext cx="2460600" cy="2840040"/>
          </a:xfrm>
          <a:prstGeom prst="rect">
            <a:avLst/>
          </a:prstGeom>
          <a:ln w="0">
            <a:noFill/>
          </a:ln>
        </p:spPr>
      </p:pic>
      <p:sp>
        <p:nvSpPr>
          <p:cNvPr id="184" name="Szövegdoboz 5"/>
          <p:cNvSpPr/>
          <p:nvPr/>
        </p:nvSpPr>
        <p:spPr>
          <a:xfrm>
            <a:off x="3825720" y="6066000"/>
            <a:ext cx="5929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lőadás animációi az EFDA „Fusion – Power for future generations” CD – ROM – ról származnak! Felhasználásuk ismeretterjesztő célokra engedélyezett!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átum helye 6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360360" y="496800"/>
            <a:ext cx="9323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atommagok felépí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539640" y="1260360"/>
            <a:ext cx="8640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Atommagok alkotóelemei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A      db nuk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Z      db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– Z   db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9640" y="2340000"/>
            <a:ext cx="9180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Arial"/>
              </a:rPr>
              <a:t>Az atommagban ható erő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80"/>
                </a:solidFill>
                <a:latin typeface="Arial"/>
              </a:rPr>
              <a:t>Elektromos kölcsönhatás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protonok taszítják egymást –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mindegyik mindegyik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Erős kölcsönhatás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nukleonok vonzzák egymást – 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csak a közeliek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4160" y="6208560"/>
            <a:ext cx="8715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héz pontos képet alkotni, mert az elemi részek – a  kvantummechanika szerint  -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ullámtermészettel is rendelkez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968400" y="3851280"/>
            <a:ext cx="7672320" cy="2143080"/>
          </a:xfrm>
          <a:prstGeom prst="rect">
            <a:avLst/>
          </a:prstGeom>
          <a:ln w="0">
            <a:noFill/>
          </a:ln>
        </p:spPr>
      </p:pic>
      <p:sp>
        <p:nvSpPr>
          <p:cNvPr id="65" name="Dátum helye 6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325440" y="493560"/>
            <a:ext cx="9358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atommagok energiája 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39640" y="993600"/>
            <a:ext cx="8640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A nukleonok közti erők hatása a mag energiájára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tonok taszítása növeli a mag energiáját (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lazítja a mag szerkezeté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eli részek vonzása csökkenti az energiát  (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tömöríti a mag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25440" y="1922400"/>
            <a:ext cx="431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Következmé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hogy nő a nukleonok száma , ú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2560" y="2565360"/>
            <a:ext cx="9026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ektromos taszítás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yre erősebb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es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onzó erős kölcsönhatás csak a közeli nukleonok közt hat, ezért egy méret ut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nek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tása nem erősödi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6720" y="6208560"/>
            <a:ext cx="88203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 magokat növelve csökken a nukleonok átlag – energiája, nagyoknál pedig n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ész nagy magok pedig nem is létezhet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968400" y="3494160"/>
            <a:ext cx="8032680" cy="2597040"/>
          </a:xfrm>
          <a:prstGeom prst="rect">
            <a:avLst/>
          </a:prstGeom>
          <a:ln w="0">
            <a:noFill/>
          </a:ln>
        </p:spPr>
      </p:pic>
      <p:sp>
        <p:nvSpPr>
          <p:cNvPr id="73" name="Dátum helye 7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Élőláb helye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396720" y="493560"/>
            <a:ext cx="9358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z atommagok energiája 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25440" y="1208160"/>
            <a:ext cx="63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A (stabil) magok energiája a mérések alapj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325520" y="1636560"/>
            <a:ext cx="672948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96720" y="1565280"/>
            <a:ext cx="828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39720" y="6208560"/>
            <a:ext cx="65725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agok „igyekeznek” a minimális energiájú állapotot felven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t ahogy egy gödörbe tett labda annak alján áll m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Dátum helye 6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Élőláb helye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325440" y="493560"/>
            <a:ext cx="9501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 fúziós energiatermelés öt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539640" y="993600"/>
            <a:ext cx="87156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őzőek szerint könnyű atommagok egyesítésével csökken a nukleonok átlagos energiá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9640" y="1636560"/>
            <a:ext cx="8640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Nehézsé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ommagokat az elektromos taszítás nem engedi egymás közelébe.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Nehéz két magot olyan közelségbe hozni, hogy az erős kölcsönhatás hatni kezdj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897200" y="2637000"/>
            <a:ext cx="5713200" cy="4162320"/>
          </a:xfrm>
          <a:prstGeom prst="rect">
            <a:avLst/>
          </a:prstGeom>
          <a:ln w="0">
            <a:noFill/>
          </a:ln>
        </p:spPr>
      </p:pic>
      <p:sp>
        <p:nvSpPr>
          <p:cNvPr id="86" name="Dátum helye 5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Élőláb helye 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otencial.avi" descr=""/>
          <p:cNvPicPr/>
          <p:nvPr/>
        </p:nvPicPr>
        <p:blipFill>
          <a:blip r:embed="rId1"/>
          <a:stretch/>
        </p:blipFill>
        <p:spPr>
          <a:xfrm>
            <a:off x="4611600" y="1351080"/>
            <a:ext cx="5008680" cy="478620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2"/>
          <p:cNvSpPr/>
          <p:nvPr/>
        </p:nvSpPr>
        <p:spPr>
          <a:xfrm>
            <a:off x="325440" y="1422360"/>
            <a:ext cx="407196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400" spc="-1" strike="noStrike">
                <a:solidFill>
                  <a:srgbClr val="c00000"/>
                </a:solidFill>
                <a:latin typeface="Arial"/>
              </a:rPr>
              <a:t>Coulomb taszítás és fú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zdeti elektromos taszítás lassítja a részecské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a részecskék relatív sebessége elég nagy 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(magas hőmérséklet miatt)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kkor a nukleáris kölcsönhatás hatósugarán belülre kerül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talmas intenzitású, de rövid hatósugarú nukleáris kölcsönhatás hatására megtörténik a fúzi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2000" spc="-1" strike="noStrike">
                <a:solidFill>
                  <a:srgbClr val="c00000"/>
                </a:solidFill>
                <a:latin typeface="Arial"/>
              </a:rPr>
              <a:t>Energia szabadul f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átum helye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Élőláb helye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96720" y="5652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u-HU" sz="2200" spc="-1" strike="noStrike">
                <a:solidFill>
                  <a:srgbClr val="800000"/>
                </a:solidFill>
                <a:latin typeface="Arial"/>
              </a:rPr>
              <a:t>A termikus fúzi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39640" y="1136520"/>
            <a:ext cx="899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Hogyan győzhetik le a magok egymás taszításá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zenfekvő megoldás: magas hőmérsékleten gyorsan röpködnek és így közel kerül-hetnek egymásh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82560" y="5065560"/>
            <a:ext cx="864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Nehézsé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bb mint 100 millió K kell ahhoz, hogy elég közel kerülhessen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2560" y="5708520"/>
            <a:ext cx="9034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Szerenc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nukleonok hullámtermészete miatt ha már elég közel vannak, bizonyos valószínű-séggel mégiscsak kialakul a kötés.</a:t>
            </a: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 (Alagút-effektu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8000"/>
                </a:solidFill>
                <a:latin typeface="Arial"/>
              </a:rPr>
              <a:t>Pár tízmillió K is elegendő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82520" y="2136600"/>
            <a:ext cx="4680000" cy="2440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183280" y="2136600"/>
            <a:ext cx="4680000" cy="2444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682560" y="4708440"/>
            <a:ext cx="3600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agok találkozása kis sebesség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897520" y="4708440"/>
            <a:ext cx="3600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agok találkozása nagy sebességg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átum helye 9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aszit.avi" descr=""/>
          <p:cNvPicPr/>
          <p:nvPr/>
        </p:nvPicPr>
        <p:blipFill>
          <a:blip r:embed="rId1"/>
          <a:stretch/>
        </p:blipFill>
        <p:spPr>
          <a:xfrm>
            <a:off x="4468680" y="1279440"/>
            <a:ext cx="5220000" cy="4886280"/>
          </a:xfrm>
          <a:prstGeom prst="rect">
            <a:avLst/>
          </a:prstGeom>
          <a:ln w="0">
            <a:noFill/>
          </a:ln>
        </p:spPr>
      </p:pic>
      <p:sp>
        <p:nvSpPr>
          <p:cNvPr id="103" name="Szövegdoboz 2"/>
          <p:cNvSpPr/>
          <p:nvPr/>
        </p:nvSpPr>
        <p:spPr>
          <a:xfrm>
            <a:off x="325440" y="1994040"/>
            <a:ext cx="4000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t azonos töltésű részecske szóródik egymáson az elektromos taszítóerők mi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 legkisebb távolság amire megközelítik egymást a relatív sebességüktől füg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Minél nagyobb a relatív sebességük, annál közelebb tudnak kerülni egymáshoz.</a:t>
            </a:r>
            <a:r>
              <a:rPr b="0" lang="hu-H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átum helye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2009. május 21. SZE - Győ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Élőláb helye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rta, Horváth: Fúziós energiatermelés  Atomenergiáról mindenkinek előadássoro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2:51:23Z</dcterms:created>
  <dc:creator/>
  <dc:description/>
  <dc:language>en-US</dc:language>
  <cp:lastModifiedBy>Miklós</cp:lastModifiedBy>
  <dcterms:modified xsi:type="dcterms:W3CDTF">2018-02-19T19:13:28Z</dcterms:modified>
  <cp:revision>87</cp:revision>
  <dc:subject/>
  <dc:title>1. dia</dc:title>
</cp:coreProperties>
</file>